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338-0B35-4552-B290-F04E95CA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1A0-07A8-4ADC-B236-09E14E03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F89-9BD7-484A-A6E3-9E74530B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354-FB21-4D4D-B740-C47E2050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497-328F-4E62-8199-8697022F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B48-B6D7-4CA9-990F-0FAE8B58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E93-3DDB-42DD-9BE2-01D4223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DFE-A36E-4780-A07A-8721805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F49-912C-4639-B046-675BBC57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A41-290B-40A2-ABB4-BE23E97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0A8-E1C9-40B2-A67E-B0858CF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62F-A374-435B-B61A-00C1533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84EF-881F-4138-8D8E-1F8CB5938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108000" y="620640"/>
            <a:ext cx="4235400" cy="561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9440" y="115920"/>
            <a:ext cx="60465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 и</a:t>
            </a:r>
            <a:r>
              <a:rPr b="1" lang="en-US" sz="5400" spc="-1" strike="noStrike">
                <a:solidFill>
                  <a:srgbClr val="008000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НИ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ДРЕВНЕЙ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ГРЕ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19280" y="4365720"/>
            <a:ext cx="3745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Gothic"/>
              </a:rPr>
              <a:t>ИНТЕРАК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Gothic"/>
              </a:rPr>
              <a:t>РИСУНОК-Т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x@ukrpost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61E-9650-4E25-AAA0-417616C67B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1BB03-5F2A-4721-8D5B-B0D7E079D9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87320" y="3230640"/>
            <a:ext cx="35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-покровитель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FB9-E7EF-4B49-A648-E48E635DC4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2400" y="3002040"/>
            <a:ext cx="361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иня мудр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ё священная птица –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EBA-A56E-4A3C-8E1B-78F015B01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6400" y="32306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иня красоты и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178-C5E8-4741-BD0A-FC95A293A0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28400" y="3002040"/>
            <a:ext cx="3938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здники в честь эт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жили начало теа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AA6-A2F7-4A77-9C2D-1787A70030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26600" y="3002040"/>
            <a:ext cx="3972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, который прик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метея к Кавказским г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8FC-9708-4896-BCD3-01ED6E58A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82960" y="3002040"/>
            <a:ext cx="415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анник Зевса, покро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F93-3EA5-4E3D-A745-DF1F8F734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2306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149-88D6-4247-8845-1D26CB7378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6040" y="1211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ff"/>
                </a:solidFill>
                <a:latin typeface="Arial"/>
              </a:rPr>
              <a:t>М  О  Л  О  Д  Е  Ц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97280" y="2565360"/>
            <a:ext cx="1549440" cy="174960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EC7-C907-4801-9525-95C41D3252CB}" type="slidenum">
              <a:t>17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74" dur="5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6040" y="11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ПРОБУЙ ЕЩЁ РАЗ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797280" y="2421000"/>
            <a:ext cx="1549440" cy="1990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931480" y="4809960"/>
            <a:ext cx="32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НЕ ТОРОП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ДУМА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F1D-5506-42F8-84D6-1106D06A832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ГЕОГРАФИЧЕСКОЕ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989000"/>
            <a:ext cx="49273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ция располо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о-Восточной Европ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е Балканского полу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легающих обла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убеж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I-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 н.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еческие племена рассел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веро-восточном Средиземномор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я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мешались с племенами, вторгшимися с сев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927680" y="1557360"/>
            <a:ext cx="3917880" cy="446400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BF8-3D7F-49FD-919C-B550778F56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2538360" y="189000"/>
            <a:ext cx="3960720" cy="134460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ГЕОГРАФ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2303640" y="2100240"/>
            <a:ext cx="4429080" cy="11527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ПРИ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УСЛОВИЯ и 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235320" y="3819600"/>
            <a:ext cx="2565360" cy="108108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6" idx="4"/>
            <a:endCxn id="47" idx="0"/>
          </p:cNvCxnSpPr>
          <p:nvPr/>
        </p:nvCxnSpPr>
        <p:spPr>
          <a:xfrm flipH="1">
            <a:off x="4517640" y="1552680"/>
            <a:ext cx="216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4"/>
            <a:endCxn id="48" idx="0"/>
          </p:cNvCxnSpPr>
          <p:nvPr/>
        </p:nvCxnSpPr>
        <p:spPr>
          <a:xfrm>
            <a:off x="4517640" y="3271320"/>
            <a:ext cx="108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3235320" y="5468760"/>
            <a:ext cx="2565360" cy="10573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man Old Style"/>
              </a:rPr>
              <a:t>Б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8" idx="4"/>
            <a:endCxn id="51" idx="0"/>
          </p:cNvCxnSpPr>
          <p:nvPr/>
        </p:nvCxnSpPr>
        <p:spPr>
          <a:xfrm>
            <a:off x="4517640" y="4919400"/>
            <a:ext cx="1080" cy="531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34200" y="3403440"/>
            <a:ext cx="232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ДЛЯ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НАЖМ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СООТВЕТСТВУ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Bookman Old Style"/>
              </a:rPr>
              <a:t>ОВ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57D-340F-4AA0-B9B3-55A6195FDB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ИРОДНЫЕ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УСЛОВИЯ и 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 –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меренно-тёпл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природа – кра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знообраз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е масс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к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преоблада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сн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дуб, бу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каш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х росли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чнозелёные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пари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лавр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олеанд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ч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лись плодород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ребовали тщательной обработ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4E3-3831-4925-ADB9-8A67DF0C78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СНОВНЫЕ ЗА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ыми занятиями греков в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-IX 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орны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азведение коров, коз, овец, свин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вни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выращивание пшеницы, ячменя, винограда, оливо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этот период грекам уже было известно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желез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о оно было дорогим. Поэтому преоблада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мед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ронзов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руд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ки занимались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емесл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оргов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и морской. Но она еще не была регулярной из-за несовершенство кораблей и была тесно связана с морским разб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13C-B96E-45DC-A97F-8AE9BF6421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СНОВНЫЕ Б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сказаниях —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миф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греки старались объяснить происхождение всего, что окружало человека: явления природы, отношения между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ифах вымысел тесно переплетается с действительностью, благодаря чему есть возможность понять много фактов жизни давних г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и из богов они считали громовержца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Зев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Морской стихией «ведал»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осейд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Богом солнца, который ездил в золотой колеснице по небу, был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Гели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ме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ыла богиней плодородия, а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богом подземного царства. Лесных богов —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сати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греки воображали в виде людей, которые обросли шерстью, с козлиными ногами и ушами. Родниковых богинь изображали в виде девчат и называли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нимф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италось, что боги не только руководят природой, но и хозяйственными занятиями. Так бог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иони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ил людей выращивать виноград и делать вино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Геф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кровительствовал кузнецам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Герм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торговле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ртем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охоте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полл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скусству. Богиней любви и красоты была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фрод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а мудрости —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ф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сть богов греки строили храмы, устанавливали статуи, проводили религиозного праздника и обряды, которые состояли в принесении даров сверхъестественным силам (жертвопринош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1A0-7B38-4FBC-9AF1-05C2EECDE2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684360" y="189000"/>
          <a:ext cx="2807640" cy="3239640"/>
        </p:xfrm>
        <a:graphic>
          <a:graphicData uri="http://schemas.openxmlformats.org/drawingml/2006/table">
            <a:tbl>
              <a:tblPr/>
              <a:tblGrid>
                <a:gridCol w="326520"/>
                <a:gridCol w="353880"/>
                <a:gridCol w="353880"/>
                <a:gridCol w="353520"/>
                <a:gridCol w="354240"/>
                <a:gridCol w="353880"/>
                <a:gridCol w="356040"/>
                <a:gridCol w="35568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29240" y="3573360"/>
            <a:ext cx="88171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     Богиня-покровительница ох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     Герой, совершивший 12 подви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     Богиня любви и крас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     Город-государство на Пелопонне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     Женщина, из-за которой, по мнению древних греков, началась Троянская вой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     Чудовище, жившее на Кр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     Покровительница реки, рощи или горной долин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     Гора, где греки «поселили» своих главных б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     Дочь царя феаков в поэме Гомера «Одиссе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кроссворд решён правильно, то по вертикали вы прочита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я предводителя греков-ахейцев в Троянск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1112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8000"/>
                </a:solidFill>
                <a:uFillTx/>
                <a:latin typeface="Book Antiqua"/>
              </a:rPr>
              <a:t>КРОССВОРД  ВЗЯТ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Уколова О.С.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преподавате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истории и обществознания МО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имназии № 210 «Корифей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. Екатеринбур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7C5-B82E-4710-9E98-6CB42EE85F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ЛИТЕРАТУРА ДЛЯ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хтина О.И. Задания для самостоятельной работы по истории древнего мира. М.: Просвещение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ер Г.И. Задания и задачи по истории древнего мира. М.: Просвещение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ванов Н.Н. 300 вопросов и ответов о мифологии. Ярославль: Академия развития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мышанова З.А. Камышанов К.А. 300 вопросов и ответов по истории и культуре древнего мира. Ярославль: Академия развития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шенкова О.В. Короткова М.В. История для любознательных. М.: Дрофа, 1996. Ч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ирнов С.Г. Задачник по истории древнего мира. М.: МИРОС,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F1C-9016-48C6-B0A0-399FF42D6A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368280"/>
            <a:ext cx="4032000" cy="26924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916360" y="36450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ГОРА ОЛИ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368280"/>
            <a:ext cx="4032360" cy="2700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720" y="4405320"/>
            <a:ext cx="729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ки, как и другие народы, верили в существования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воображали их себе подобными люд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сильными и бессмертными, считая, что они жив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ре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Олим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в Северной Гре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туда, по мнению греков, они правят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F6F-DC9A-4E71-9659-ACA41ABF9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82560"/>
            <a:ext cx="9144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Century Gothic"/>
              </a:rPr>
              <a:t>ИНТЕРАКТИВНЫЙ ТЕСТ-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246204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РОЧИТАЙТ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ЙДИТЕ ПРАВИЛЬНЫЙ, ПО-ВАШЕМУ,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ОДВЕДИТЕ КУРСОР “МЫШКИ” К СООТВЕТСТВУЮЩЕМУ РИСУ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КУРСОР ИЗМЕНИТ СВОЮ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ЖМИТЕ ЛЕВОЙ КНОПКОЙ “МЫШ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ЕСЛИ ВЫ ПРАВИЛЬНО ОТВЕТИЛИ – ПОЛУЧИТЕ НА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ЧТОБЫ ПЕРЕЙТИ К РИСУНКАМ ТЕСТА – НАЖМИТЕ КНОП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508640"/>
            <a:ext cx="1151280" cy="187308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048-64E1-4B59-856E-E007D5BB07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0560" y="1125360"/>
            <a:ext cx="4012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о дом – подводный двор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де он держ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ую колес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белых лоша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читалось, что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зывает землетря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Символ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езуб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льф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36B-9882-47FB-9F81-FFCD6597A4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144760" y="3005280"/>
            <a:ext cx="369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ховный греческий бог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ец богов 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FFA-3634-4D22-B005-14CC19454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5680" y="1674720"/>
            <a:ext cx="433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ладыка загробного ми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арства мерт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ревностно охранял мертв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дко разрешая верну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владел вс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агоценными кам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металлам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70C-1013-48A0-8D6A-DFF9CF1879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8560" y="3230640"/>
            <a:ext cx="33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пруга верховн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599-A30B-493F-B8A3-C6A9ABAD9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custGeom>
            <a:avLst/>
            <a:gdLst/>
            <a:ahLst/>
            <a:rect l="l" t="t" r="r" b="b"/>
            <a:pathLst>
              <a:path w="1002" h="1239">
                <a:moveTo>
                  <a:pt x="564" y="99"/>
                </a:moveTo>
                <a:cubicBezTo>
                  <a:pt x="571" y="114"/>
                  <a:pt x="582" y="126"/>
                  <a:pt x="591" y="140"/>
                </a:cubicBezTo>
                <a:cubicBezTo>
                  <a:pt x="683" y="108"/>
                  <a:pt x="583" y="156"/>
                  <a:pt x="644" y="19"/>
                </a:cubicBezTo>
                <a:cubicBezTo>
                  <a:pt x="650" y="6"/>
                  <a:pt x="670" y="9"/>
                  <a:pt x="684" y="6"/>
                </a:cubicBezTo>
                <a:cubicBezTo>
                  <a:pt x="719" y="0"/>
                  <a:pt x="719" y="23"/>
                  <a:pt x="755" y="18"/>
                </a:cubicBezTo>
                <a:cubicBezTo>
                  <a:pt x="773" y="23"/>
                  <a:pt x="757" y="38"/>
                  <a:pt x="767" y="54"/>
                </a:cubicBezTo>
                <a:cubicBezTo>
                  <a:pt x="776" y="70"/>
                  <a:pt x="751" y="90"/>
                  <a:pt x="743" y="106"/>
                </a:cubicBezTo>
                <a:cubicBezTo>
                  <a:pt x="728" y="135"/>
                  <a:pt x="713" y="139"/>
                  <a:pt x="695" y="166"/>
                </a:cubicBezTo>
                <a:cubicBezTo>
                  <a:pt x="686" y="179"/>
                  <a:pt x="683" y="218"/>
                  <a:pt x="683" y="218"/>
                </a:cubicBezTo>
                <a:cubicBezTo>
                  <a:pt x="667" y="267"/>
                  <a:pt x="710" y="262"/>
                  <a:pt x="698" y="314"/>
                </a:cubicBezTo>
                <a:lnTo>
                  <a:pt x="738" y="515"/>
                </a:lnTo>
                <a:cubicBezTo>
                  <a:pt x="815" y="653"/>
                  <a:pt x="773" y="545"/>
                  <a:pt x="805" y="635"/>
                </a:cubicBezTo>
                <a:cubicBezTo>
                  <a:pt x="800" y="653"/>
                  <a:pt x="803" y="675"/>
                  <a:pt x="791" y="689"/>
                </a:cubicBezTo>
                <a:cubicBezTo>
                  <a:pt x="782" y="700"/>
                  <a:pt x="762" y="693"/>
                  <a:pt x="751" y="702"/>
                </a:cubicBezTo>
                <a:cubicBezTo>
                  <a:pt x="738" y="712"/>
                  <a:pt x="676" y="721"/>
                  <a:pt x="667" y="734"/>
                </a:cubicBezTo>
                <a:cubicBezTo>
                  <a:pt x="704" y="844"/>
                  <a:pt x="700" y="779"/>
                  <a:pt x="723" y="802"/>
                </a:cubicBezTo>
                <a:cubicBezTo>
                  <a:pt x="746" y="825"/>
                  <a:pt x="802" y="866"/>
                  <a:pt x="832" y="876"/>
                </a:cubicBezTo>
                <a:cubicBezTo>
                  <a:pt x="859" y="885"/>
                  <a:pt x="912" y="903"/>
                  <a:pt x="912" y="903"/>
                </a:cubicBezTo>
                <a:cubicBezTo>
                  <a:pt x="939" y="921"/>
                  <a:pt x="1002" y="926"/>
                  <a:pt x="992" y="957"/>
                </a:cubicBezTo>
                <a:cubicBezTo>
                  <a:pt x="962" y="1051"/>
                  <a:pt x="993" y="1028"/>
                  <a:pt x="925" y="1051"/>
                </a:cubicBezTo>
                <a:cubicBezTo>
                  <a:pt x="915" y="1082"/>
                  <a:pt x="917" y="1117"/>
                  <a:pt x="899" y="1144"/>
                </a:cubicBezTo>
                <a:cubicBezTo>
                  <a:pt x="890" y="1158"/>
                  <a:pt x="871" y="1161"/>
                  <a:pt x="858" y="1171"/>
                </a:cubicBezTo>
                <a:cubicBezTo>
                  <a:pt x="843" y="1183"/>
                  <a:pt x="834" y="1202"/>
                  <a:pt x="818" y="1211"/>
                </a:cubicBezTo>
                <a:cubicBezTo>
                  <a:pt x="793" y="1225"/>
                  <a:pt x="738" y="1238"/>
                  <a:pt x="738" y="1238"/>
                </a:cubicBezTo>
                <a:cubicBezTo>
                  <a:pt x="615" y="1223"/>
                  <a:pt x="555" y="1210"/>
                  <a:pt x="430" y="1225"/>
                </a:cubicBezTo>
                <a:cubicBezTo>
                  <a:pt x="328" y="1189"/>
                  <a:pt x="208" y="1239"/>
                  <a:pt x="108" y="1198"/>
                </a:cubicBezTo>
                <a:cubicBezTo>
                  <a:pt x="78" y="1186"/>
                  <a:pt x="162" y="1118"/>
                  <a:pt x="162" y="1118"/>
                </a:cubicBezTo>
                <a:cubicBezTo>
                  <a:pt x="52" y="1080"/>
                  <a:pt x="182" y="1138"/>
                  <a:pt x="162" y="1064"/>
                </a:cubicBezTo>
                <a:cubicBezTo>
                  <a:pt x="157" y="1046"/>
                  <a:pt x="229" y="996"/>
                  <a:pt x="211" y="994"/>
                </a:cubicBezTo>
                <a:cubicBezTo>
                  <a:pt x="153" y="987"/>
                  <a:pt x="173" y="967"/>
                  <a:pt x="115" y="962"/>
                </a:cubicBezTo>
                <a:cubicBezTo>
                  <a:pt x="120" y="949"/>
                  <a:pt x="83" y="950"/>
                  <a:pt x="91" y="938"/>
                </a:cubicBezTo>
                <a:cubicBezTo>
                  <a:pt x="110" y="909"/>
                  <a:pt x="0" y="948"/>
                  <a:pt x="15" y="917"/>
                </a:cubicBezTo>
                <a:cubicBezTo>
                  <a:pt x="31" y="884"/>
                  <a:pt x="32" y="845"/>
                  <a:pt x="41" y="809"/>
                </a:cubicBezTo>
                <a:cubicBezTo>
                  <a:pt x="51" y="727"/>
                  <a:pt x="33" y="663"/>
                  <a:pt x="122" y="622"/>
                </a:cubicBezTo>
                <a:cubicBezTo>
                  <a:pt x="140" y="584"/>
                  <a:pt x="139" y="589"/>
                  <a:pt x="147" y="578"/>
                </a:cubicBezTo>
                <a:cubicBezTo>
                  <a:pt x="119" y="578"/>
                  <a:pt x="139" y="564"/>
                  <a:pt x="111" y="558"/>
                </a:cubicBezTo>
                <a:cubicBezTo>
                  <a:pt x="89" y="553"/>
                  <a:pt x="107" y="527"/>
                  <a:pt x="123" y="522"/>
                </a:cubicBezTo>
                <a:cubicBezTo>
                  <a:pt x="139" y="517"/>
                  <a:pt x="235" y="529"/>
                  <a:pt x="267" y="522"/>
                </a:cubicBezTo>
                <a:cubicBezTo>
                  <a:pt x="258" y="509"/>
                  <a:pt x="315" y="482"/>
                  <a:pt x="315" y="482"/>
                </a:cubicBezTo>
                <a:cubicBezTo>
                  <a:pt x="365" y="279"/>
                  <a:pt x="215" y="153"/>
                  <a:pt x="390" y="140"/>
                </a:cubicBezTo>
                <a:cubicBezTo>
                  <a:pt x="403" y="131"/>
                  <a:pt x="415" y="120"/>
                  <a:pt x="430" y="113"/>
                </a:cubicBezTo>
                <a:cubicBezTo>
                  <a:pt x="456" y="101"/>
                  <a:pt x="510" y="86"/>
                  <a:pt x="510" y="86"/>
                </a:cubicBezTo>
                <a:cubicBezTo>
                  <a:pt x="532" y="84"/>
                  <a:pt x="551" y="90"/>
                  <a:pt x="564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custGeom>
            <a:avLst/>
            <a:gdLst/>
            <a:ahLst/>
            <a:rect l="l" t="t" r="r" b="b"/>
            <a:pathLst>
              <a:path w="1306" h="1284">
                <a:moveTo>
                  <a:pt x="116" y="64"/>
                </a:moveTo>
                <a:cubicBezTo>
                  <a:pt x="152" y="76"/>
                  <a:pt x="189" y="87"/>
                  <a:pt x="220" y="108"/>
                </a:cubicBezTo>
                <a:cubicBezTo>
                  <a:pt x="239" y="121"/>
                  <a:pt x="227" y="114"/>
                  <a:pt x="256" y="124"/>
                </a:cubicBezTo>
                <a:cubicBezTo>
                  <a:pt x="260" y="125"/>
                  <a:pt x="268" y="128"/>
                  <a:pt x="268" y="128"/>
                </a:cubicBezTo>
                <a:cubicBezTo>
                  <a:pt x="285" y="145"/>
                  <a:pt x="307" y="153"/>
                  <a:pt x="328" y="164"/>
                </a:cubicBezTo>
                <a:cubicBezTo>
                  <a:pt x="336" y="169"/>
                  <a:pt x="343" y="177"/>
                  <a:pt x="352" y="180"/>
                </a:cubicBezTo>
                <a:cubicBezTo>
                  <a:pt x="365" y="184"/>
                  <a:pt x="388" y="200"/>
                  <a:pt x="388" y="200"/>
                </a:cubicBezTo>
                <a:cubicBezTo>
                  <a:pt x="397" y="214"/>
                  <a:pt x="403" y="226"/>
                  <a:pt x="416" y="236"/>
                </a:cubicBezTo>
                <a:cubicBezTo>
                  <a:pt x="424" y="242"/>
                  <a:pt x="440" y="252"/>
                  <a:pt x="440" y="252"/>
                </a:cubicBezTo>
                <a:cubicBezTo>
                  <a:pt x="445" y="268"/>
                  <a:pt x="463" y="274"/>
                  <a:pt x="480" y="280"/>
                </a:cubicBezTo>
                <a:cubicBezTo>
                  <a:pt x="512" y="232"/>
                  <a:pt x="454" y="161"/>
                  <a:pt x="516" y="140"/>
                </a:cubicBezTo>
                <a:cubicBezTo>
                  <a:pt x="519" y="136"/>
                  <a:pt x="521" y="131"/>
                  <a:pt x="524" y="128"/>
                </a:cubicBezTo>
                <a:cubicBezTo>
                  <a:pt x="527" y="125"/>
                  <a:pt x="533" y="124"/>
                  <a:pt x="536" y="120"/>
                </a:cubicBezTo>
                <a:cubicBezTo>
                  <a:pt x="554" y="99"/>
                  <a:pt x="560" y="85"/>
                  <a:pt x="588" y="76"/>
                </a:cubicBezTo>
                <a:cubicBezTo>
                  <a:pt x="619" y="81"/>
                  <a:pt x="648" y="91"/>
                  <a:pt x="680" y="96"/>
                </a:cubicBezTo>
                <a:cubicBezTo>
                  <a:pt x="713" y="107"/>
                  <a:pt x="774" y="92"/>
                  <a:pt x="804" y="72"/>
                </a:cubicBezTo>
                <a:cubicBezTo>
                  <a:pt x="813" y="58"/>
                  <a:pt x="820" y="53"/>
                  <a:pt x="836" y="48"/>
                </a:cubicBezTo>
                <a:cubicBezTo>
                  <a:pt x="882" y="2"/>
                  <a:pt x="959" y="30"/>
                  <a:pt x="1020" y="28"/>
                </a:cubicBezTo>
                <a:cubicBezTo>
                  <a:pt x="1055" y="4"/>
                  <a:pt x="1129" y="31"/>
                  <a:pt x="1172" y="36"/>
                </a:cubicBezTo>
                <a:cubicBezTo>
                  <a:pt x="1197" y="44"/>
                  <a:pt x="1211" y="66"/>
                  <a:pt x="1232" y="80"/>
                </a:cubicBezTo>
                <a:cubicBezTo>
                  <a:pt x="1238" y="98"/>
                  <a:pt x="1254" y="111"/>
                  <a:pt x="1260" y="128"/>
                </a:cubicBezTo>
                <a:cubicBezTo>
                  <a:pt x="1274" y="169"/>
                  <a:pt x="1287" y="208"/>
                  <a:pt x="1300" y="248"/>
                </a:cubicBezTo>
                <a:cubicBezTo>
                  <a:pt x="1298" y="268"/>
                  <a:pt x="1306" y="294"/>
                  <a:pt x="1292" y="308"/>
                </a:cubicBezTo>
                <a:cubicBezTo>
                  <a:pt x="1247" y="353"/>
                  <a:pt x="1115" y="331"/>
                  <a:pt x="1092" y="332"/>
                </a:cubicBezTo>
                <a:cubicBezTo>
                  <a:pt x="1064" y="350"/>
                  <a:pt x="1077" y="345"/>
                  <a:pt x="1056" y="352"/>
                </a:cubicBezTo>
                <a:cubicBezTo>
                  <a:pt x="1038" y="379"/>
                  <a:pt x="1002" y="381"/>
                  <a:pt x="972" y="388"/>
                </a:cubicBezTo>
                <a:cubicBezTo>
                  <a:pt x="942" y="383"/>
                  <a:pt x="905" y="375"/>
                  <a:pt x="880" y="396"/>
                </a:cubicBezTo>
                <a:cubicBezTo>
                  <a:pt x="873" y="402"/>
                  <a:pt x="864" y="412"/>
                  <a:pt x="860" y="420"/>
                </a:cubicBezTo>
                <a:cubicBezTo>
                  <a:pt x="857" y="428"/>
                  <a:pt x="852" y="444"/>
                  <a:pt x="852" y="444"/>
                </a:cubicBezTo>
                <a:cubicBezTo>
                  <a:pt x="873" y="528"/>
                  <a:pt x="962" y="535"/>
                  <a:pt x="1024" y="576"/>
                </a:cubicBezTo>
                <a:cubicBezTo>
                  <a:pt x="1042" y="604"/>
                  <a:pt x="1031" y="597"/>
                  <a:pt x="1052" y="604"/>
                </a:cubicBezTo>
                <a:cubicBezTo>
                  <a:pt x="1045" y="640"/>
                  <a:pt x="1031" y="628"/>
                  <a:pt x="992" y="624"/>
                </a:cubicBezTo>
                <a:cubicBezTo>
                  <a:pt x="977" y="614"/>
                  <a:pt x="959" y="610"/>
                  <a:pt x="944" y="600"/>
                </a:cubicBezTo>
                <a:cubicBezTo>
                  <a:pt x="931" y="620"/>
                  <a:pt x="940" y="638"/>
                  <a:pt x="952" y="656"/>
                </a:cubicBezTo>
                <a:cubicBezTo>
                  <a:pt x="949" y="711"/>
                  <a:pt x="958" y="725"/>
                  <a:pt x="912" y="740"/>
                </a:cubicBezTo>
                <a:cubicBezTo>
                  <a:pt x="898" y="781"/>
                  <a:pt x="917" y="723"/>
                  <a:pt x="904" y="832"/>
                </a:cubicBezTo>
                <a:cubicBezTo>
                  <a:pt x="903" y="840"/>
                  <a:pt x="899" y="848"/>
                  <a:pt x="896" y="856"/>
                </a:cubicBezTo>
                <a:cubicBezTo>
                  <a:pt x="893" y="864"/>
                  <a:pt x="872" y="864"/>
                  <a:pt x="872" y="864"/>
                </a:cubicBezTo>
                <a:cubicBezTo>
                  <a:pt x="832" y="851"/>
                  <a:pt x="837" y="897"/>
                  <a:pt x="828" y="924"/>
                </a:cubicBezTo>
                <a:cubicBezTo>
                  <a:pt x="833" y="944"/>
                  <a:pt x="841" y="957"/>
                  <a:pt x="856" y="972"/>
                </a:cubicBezTo>
                <a:cubicBezTo>
                  <a:pt x="859" y="980"/>
                  <a:pt x="865" y="987"/>
                  <a:pt x="868" y="996"/>
                </a:cubicBezTo>
                <a:cubicBezTo>
                  <a:pt x="872" y="1010"/>
                  <a:pt x="872" y="1026"/>
                  <a:pt x="876" y="1040"/>
                </a:cubicBezTo>
                <a:cubicBezTo>
                  <a:pt x="879" y="1086"/>
                  <a:pt x="877" y="1136"/>
                  <a:pt x="904" y="1176"/>
                </a:cubicBezTo>
                <a:cubicBezTo>
                  <a:pt x="905" y="1192"/>
                  <a:pt x="905" y="1208"/>
                  <a:pt x="908" y="1224"/>
                </a:cubicBezTo>
                <a:cubicBezTo>
                  <a:pt x="909" y="1232"/>
                  <a:pt x="916" y="1248"/>
                  <a:pt x="916" y="1248"/>
                </a:cubicBezTo>
                <a:cubicBezTo>
                  <a:pt x="911" y="1274"/>
                  <a:pt x="911" y="1279"/>
                  <a:pt x="884" y="1284"/>
                </a:cubicBezTo>
                <a:cubicBezTo>
                  <a:pt x="849" y="1279"/>
                  <a:pt x="829" y="1259"/>
                  <a:pt x="796" y="1248"/>
                </a:cubicBezTo>
                <a:cubicBezTo>
                  <a:pt x="694" y="1250"/>
                  <a:pt x="545" y="1268"/>
                  <a:pt x="432" y="1240"/>
                </a:cubicBezTo>
                <a:cubicBezTo>
                  <a:pt x="421" y="1233"/>
                  <a:pt x="399" y="1217"/>
                  <a:pt x="416" y="1200"/>
                </a:cubicBezTo>
                <a:cubicBezTo>
                  <a:pt x="427" y="1189"/>
                  <a:pt x="445" y="1194"/>
                  <a:pt x="460" y="1192"/>
                </a:cubicBezTo>
                <a:cubicBezTo>
                  <a:pt x="472" y="1155"/>
                  <a:pt x="463" y="1123"/>
                  <a:pt x="436" y="1096"/>
                </a:cubicBezTo>
                <a:cubicBezTo>
                  <a:pt x="429" y="1076"/>
                  <a:pt x="425" y="1056"/>
                  <a:pt x="420" y="1036"/>
                </a:cubicBezTo>
                <a:cubicBezTo>
                  <a:pt x="420" y="1036"/>
                  <a:pt x="410" y="1006"/>
                  <a:pt x="408" y="1000"/>
                </a:cubicBezTo>
                <a:cubicBezTo>
                  <a:pt x="407" y="996"/>
                  <a:pt x="404" y="988"/>
                  <a:pt x="404" y="988"/>
                </a:cubicBezTo>
                <a:cubicBezTo>
                  <a:pt x="407" y="958"/>
                  <a:pt x="406" y="925"/>
                  <a:pt x="416" y="896"/>
                </a:cubicBezTo>
                <a:cubicBezTo>
                  <a:pt x="422" y="826"/>
                  <a:pt x="422" y="822"/>
                  <a:pt x="432" y="772"/>
                </a:cubicBezTo>
                <a:cubicBezTo>
                  <a:pt x="438" y="627"/>
                  <a:pt x="461" y="695"/>
                  <a:pt x="408" y="660"/>
                </a:cubicBezTo>
                <a:cubicBezTo>
                  <a:pt x="397" y="628"/>
                  <a:pt x="408" y="668"/>
                  <a:pt x="408" y="636"/>
                </a:cubicBezTo>
                <a:cubicBezTo>
                  <a:pt x="408" y="604"/>
                  <a:pt x="406" y="572"/>
                  <a:pt x="404" y="540"/>
                </a:cubicBezTo>
                <a:cubicBezTo>
                  <a:pt x="401" y="493"/>
                  <a:pt x="392" y="468"/>
                  <a:pt x="368" y="432"/>
                </a:cubicBezTo>
                <a:cubicBezTo>
                  <a:pt x="362" y="423"/>
                  <a:pt x="315" y="412"/>
                  <a:pt x="304" y="408"/>
                </a:cubicBezTo>
                <a:cubicBezTo>
                  <a:pt x="290" y="394"/>
                  <a:pt x="279" y="377"/>
                  <a:pt x="268" y="360"/>
                </a:cubicBezTo>
                <a:cubicBezTo>
                  <a:pt x="263" y="352"/>
                  <a:pt x="244" y="344"/>
                  <a:pt x="244" y="344"/>
                </a:cubicBezTo>
                <a:cubicBezTo>
                  <a:pt x="226" y="316"/>
                  <a:pt x="229" y="283"/>
                  <a:pt x="220" y="252"/>
                </a:cubicBezTo>
                <a:cubicBezTo>
                  <a:pt x="215" y="234"/>
                  <a:pt x="214" y="237"/>
                  <a:pt x="200" y="216"/>
                </a:cubicBezTo>
                <a:cubicBezTo>
                  <a:pt x="187" y="197"/>
                  <a:pt x="183" y="166"/>
                  <a:pt x="168" y="148"/>
                </a:cubicBezTo>
                <a:cubicBezTo>
                  <a:pt x="152" y="128"/>
                  <a:pt x="100" y="126"/>
                  <a:pt x="80" y="124"/>
                </a:cubicBezTo>
                <a:cubicBezTo>
                  <a:pt x="72" y="121"/>
                  <a:pt x="64" y="119"/>
                  <a:pt x="56" y="116"/>
                </a:cubicBezTo>
                <a:cubicBezTo>
                  <a:pt x="52" y="115"/>
                  <a:pt x="44" y="112"/>
                  <a:pt x="44" y="112"/>
                </a:cubicBezTo>
                <a:cubicBezTo>
                  <a:pt x="33" y="101"/>
                  <a:pt x="18" y="98"/>
                  <a:pt x="12" y="84"/>
                </a:cubicBezTo>
                <a:cubicBezTo>
                  <a:pt x="9" y="76"/>
                  <a:pt x="7" y="68"/>
                  <a:pt x="4" y="60"/>
                </a:cubicBezTo>
                <a:cubicBezTo>
                  <a:pt x="3" y="56"/>
                  <a:pt x="0" y="48"/>
                  <a:pt x="0" y="48"/>
                </a:cubicBezTo>
                <a:cubicBezTo>
                  <a:pt x="12" y="0"/>
                  <a:pt x="48" y="35"/>
                  <a:pt x="76" y="44"/>
                </a:cubicBezTo>
                <a:cubicBezTo>
                  <a:pt x="84" y="56"/>
                  <a:pt x="108" y="72"/>
                  <a:pt x="108" y="72"/>
                </a:cubicBezTo>
                <a:cubicBezTo>
                  <a:pt x="116" y="67"/>
                  <a:pt x="153" y="55"/>
                  <a:pt x="116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custGeom>
            <a:avLst/>
            <a:gdLst/>
            <a:ahLst/>
            <a:rect l="l" t="t" r="r" b="b"/>
            <a:pathLst>
              <a:path w="747" h="1431">
                <a:moveTo>
                  <a:pt x="4" y="17"/>
                </a:moveTo>
                <a:cubicBezTo>
                  <a:pt x="38" y="7"/>
                  <a:pt x="27" y="0"/>
                  <a:pt x="69" y="13"/>
                </a:cubicBezTo>
                <a:cubicBezTo>
                  <a:pt x="85" y="11"/>
                  <a:pt x="100" y="4"/>
                  <a:pt x="116" y="4"/>
                </a:cubicBezTo>
                <a:cubicBezTo>
                  <a:pt x="141" y="4"/>
                  <a:pt x="183" y="15"/>
                  <a:pt x="206" y="17"/>
                </a:cubicBezTo>
                <a:cubicBezTo>
                  <a:pt x="245" y="56"/>
                  <a:pt x="196" y="94"/>
                  <a:pt x="232" y="146"/>
                </a:cubicBezTo>
                <a:cubicBezTo>
                  <a:pt x="227" y="190"/>
                  <a:pt x="219" y="198"/>
                  <a:pt x="198" y="232"/>
                </a:cubicBezTo>
                <a:cubicBezTo>
                  <a:pt x="201" y="250"/>
                  <a:pt x="205" y="267"/>
                  <a:pt x="210" y="284"/>
                </a:cubicBezTo>
                <a:cubicBezTo>
                  <a:pt x="204" y="287"/>
                  <a:pt x="197" y="288"/>
                  <a:pt x="193" y="292"/>
                </a:cubicBezTo>
                <a:cubicBezTo>
                  <a:pt x="184" y="301"/>
                  <a:pt x="192" y="332"/>
                  <a:pt x="193" y="335"/>
                </a:cubicBezTo>
                <a:cubicBezTo>
                  <a:pt x="198" y="359"/>
                  <a:pt x="213" y="404"/>
                  <a:pt x="232" y="417"/>
                </a:cubicBezTo>
                <a:cubicBezTo>
                  <a:pt x="245" y="399"/>
                  <a:pt x="240" y="384"/>
                  <a:pt x="249" y="365"/>
                </a:cubicBezTo>
                <a:cubicBezTo>
                  <a:pt x="261" y="337"/>
                  <a:pt x="281" y="305"/>
                  <a:pt x="305" y="288"/>
                </a:cubicBezTo>
                <a:cubicBezTo>
                  <a:pt x="315" y="273"/>
                  <a:pt x="323" y="269"/>
                  <a:pt x="339" y="262"/>
                </a:cubicBezTo>
                <a:cubicBezTo>
                  <a:pt x="374" y="268"/>
                  <a:pt x="388" y="276"/>
                  <a:pt x="425" y="279"/>
                </a:cubicBezTo>
                <a:cubicBezTo>
                  <a:pt x="461" y="293"/>
                  <a:pt x="487" y="332"/>
                  <a:pt x="520" y="352"/>
                </a:cubicBezTo>
                <a:cubicBezTo>
                  <a:pt x="536" y="375"/>
                  <a:pt x="556" y="382"/>
                  <a:pt x="524" y="404"/>
                </a:cubicBezTo>
                <a:cubicBezTo>
                  <a:pt x="521" y="408"/>
                  <a:pt x="520" y="413"/>
                  <a:pt x="516" y="417"/>
                </a:cubicBezTo>
                <a:cubicBezTo>
                  <a:pt x="512" y="421"/>
                  <a:pt x="503" y="421"/>
                  <a:pt x="503" y="426"/>
                </a:cubicBezTo>
                <a:cubicBezTo>
                  <a:pt x="503" y="433"/>
                  <a:pt x="530" y="445"/>
                  <a:pt x="533" y="447"/>
                </a:cubicBezTo>
                <a:cubicBezTo>
                  <a:pt x="554" y="460"/>
                  <a:pt x="562" y="479"/>
                  <a:pt x="576" y="499"/>
                </a:cubicBezTo>
                <a:cubicBezTo>
                  <a:pt x="590" y="559"/>
                  <a:pt x="601" y="654"/>
                  <a:pt x="636" y="705"/>
                </a:cubicBezTo>
                <a:cubicBezTo>
                  <a:pt x="639" y="715"/>
                  <a:pt x="642" y="725"/>
                  <a:pt x="645" y="735"/>
                </a:cubicBezTo>
                <a:cubicBezTo>
                  <a:pt x="646" y="739"/>
                  <a:pt x="649" y="748"/>
                  <a:pt x="649" y="748"/>
                </a:cubicBezTo>
                <a:cubicBezTo>
                  <a:pt x="646" y="800"/>
                  <a:pt x="640" y="812"/>
                  <a:pt x="627" y="855"/>
                </a:cubicBezTo>
                <a:cubicBezTo>
                  <a:pt x="630" y="892"/>
                  <a:pt x="641" y="946"/>
                  <a:pt x="632" y="984"/>
                </a:cubicBezTo>
                <a:cubicBezTo>
                  <a:pt x="629" y="998"/>
                  <a:pt x="619" y="1009"/>
                  <a:pt x="615" y="1023"/>
                </a:cubicBezTo>
                <a:cubicBezTo>
                  <a:pt x="620" y="1064"/>
                  <a:pt x="626" y="1066"/>
                  <a:pt x="658" y="1088"/>
                </a:cubicBezTo>
                <a:cubicBezTo>
                  <a:pt x="661" y="1092"/>
                  <a:pt x="663" y="1097"/>
                  <a:pt x="666" y="1100"/>
                </a:cubicBezTo>
                <a:cubicBezTo>
                  <a:pt x="670" y="1104"/>
                  <a:pt x="676" y="1105"/>
                  <a:pt x="679" y="1109"/>
                </a:cubicBezTo>
                <a:cubicBezTo>
                  <a:pt x="689" y="1122"/>
                  <a:pt x="692" y="1157"/>
                  <a:pt x="696" y="1169"/>
                </a:cubicBezTo>
                <a:cubicBezTo>
                  <a:pt x="703" y="1188"/>
                  <a:pt x="715" y="1207"/>
                  <a:pt x="726" y="1225"/>
                </a:cubicBezTo>
                <a:cubicBezTo>
                  <a:pt x="725" y="1246"/>
                  <a:pt x="747" y="1355"/>
                  <a:pt x="696" y="1371"/>
                </a:cubicBezTo>
                <a:cubicBezTo>
                  <a:pt x="659" y="1431"/>
                  <a:pt x="557" y="1395"/>
                  <a:pt x="486" y="1397"/>
                </a:cubicBezTo>
                <a:cubicBezTo>
                  <a:pt x="445" y="1405"/>
                  <a:pt x="448" y="1406"/>
                  <a:pt x="395" y="1401"/>
                </a:cubicBezTo>
                <a:cubicBezTo>
                  <a:pt x="323" y="1379"/>
                  <a:pt x="243" y="1389"/>
                  <a:pt x="168" y="1384"/>
                </a:cubicBezTo>
                <a:cubicBezTo>
                  <a:pt x="164" y="1383"/>
                  <a:pt x="158" y="1383"/>
                  <a:pt x="155" y="1380"/>
                </a:cubicBezTo>
                <a:cubicBezTo>
                  <a:pt x="147" y="1373"/>
                  <a:pt x="137" y="1354"/>
                  <a:pt x="137" y="1354"/>
                </a:cubicBezTo>
                <a:cubicBezTo>
                  <a:pt x="136" y="1335"/>
                  <a:pt x="136" y="1316"/>
                  <a:pt x="133" y="1298"/>
                </a:cubicBezTo>
                <a:cubicBezTo>
                  <a:pt x="132" y="1293"/>
                  <a:pt x="126" y="1290"/>
                  <a:pt x="125" y="1285"/>
                </a:cubicBezTo>
                <a:cubicBezTo>
                  <a:pt x="122" y="1262"/>
                  <a:pt x="162" y="1211"/>
                  <a:pt x="172" y="1186"/>
                </a:cubicBezTo>
                <a:cubicBezTo>
                  <a:pt x="182" y="1131"/>
                  <a:pt x="181" y="1084"/>
                  <a:pt x="159" y="1032"/>
                </a:cubicBezTo>
                <a:cubicBezTo>
                  <a:pt x="158" y="996"/>
                  <a:pt x="159" y="960"/>
                  <a:pt x="155" y="924"/>
                </a:cubicBezTo>
                <a:cubicBezTo>
                  <a:pt x="154" y="919"/>
                  <a:pt x="148" y="916"/>
                  <a:pt x="146" y="911"/>
                </a:cubicBezTo>
                <a:cubicBezTo>
                  <a:pt x="135" y="885"/>
                  <a:pt x="124" y="857"/>
                  <a:pt x="116" y="830"/>
                </a:cubicBezTo>
                <a:cubicBezTo>
                  <a:pt x="113" y="801"/>
                  <a:pt x="113" y="791"/>
                  <a:pt x="99" y="769"/>
                </a:cubicBezTo>
                <a:cubicBezTo>
                  <a:pt x="94" y="751"/>
                  <a:pt x="73" y="718"/>
                  <a:pt x="73" y="718"/>
                </a:cubicBezTo>
                <a:cubicBezTo>
                  <a:pt x="75" y="697"/>
                  <a:pt x="104" y="669"/>
                  <a:pt x="112" y="645"/>
                </a:cubicBezTo>
                <a:cubicBezTo>
                  <a:pt x="105" y="622"/>
                  <a:pt x="124" y="603"/>
                  <a:pt x="120" y="576"/>
                </a:cubicBezTo>
                <a:cubicBezTo>
                  <a:pt x="123" y="537"/>
                  <a:pt x="1" y="506"/>
                  <a:pt x="21" y="473"/>
                </a:cubicBezTo>
                <a:cubicBezTo>
                  <a:pt x="31" y="440"/>
                  <a:pt x="96" y="418"/>
                  <a:pt x="77" y="387"/>
                </a:cubicBezTo>
                <a:cubicBezTo>
                  <a:pt x="96" y="324"/>
                  <a:pt x="19" y="241"/>
                  <a:pt x="17" y="185"/>
                </a:cubicBezTo>
                <a:cubicBezTo>
                  <a:pt x="16" y="151"/>
                  <a:pt x="16" y="116"/>
                  <a:pt x="13" y="82"/>
                </a:cubicBezTo>
                <a:cubicBezTo>
                  <a:pt x="12" y="68"/>
                  <a:pt x="0" y="43"/>
                  <a:pt x="0" y="43"/>
                </a:cubicBezTo>
                <a:cubicBezTo>
                  <a:pt x="10" y="26"/>
                  <a:pt x="9" y="35"/>
                  <a:pt x="4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custGeom>
            <a:avLst/>
            <a:gdLst/>
            <a:ahLst/>
            <a:rect l="l" t="t" r="r" b="b"/>
            <a:pathLst>
              <a:path w="684" h="1126">
                <a:moveTo>
                  <a:pt x="138" y="81"/>
                </a:moveTo>
                <a:cubicBezTo>
                  <a:pt x="170" y="61"/>
                  <a:pt x="213" y="55"/>
                  <a:pt x="249" y="51"/>
                </a:cubicBezTo>
                <a:cubicBezTo>
                  <a:pt x="279" y="42"/>
                  <a:pt x="307" y="36"/>
                  <a:pt x="335" y="21"/>
                </a:cubicBezTo>
                <a:cubicBezTo>
                  <a:pt x="349" y="0"/>
                  <a:pt x="355" y="12"/>
                  <a:pt x="374" y="25"/>
                </a:cubicBezTo>
                <a:cubicBezTo>
                  <a:pt x="392" y="51"/>
                  <a:pt x="392" y="84"/>
                  <a:pt x="374" y="111"/>
                </a:cubicBezTo>
                <a:cubicBezTo>
                  <a:pt x="368" y="130"/>
                  <a:pt x="355" y="146"/>
                  <a:pt x="344" y="163"/>
                </a:cubicBezTo>
                <a:cubicBezTo>
                  <a:pt x="349" y="186"/>
                  <a:pt x="354" y="205"/>
                  <a:pt x="378" y="215"/>
                </a:cubicBezTo>
                <a:cubicBezTo>
                  <a:pt x="395" y="238"/>
                  <a:pt x="411" y="240"/>
                  <a:pt x="439" y="245"/>
                </a:cubicBezTo>
                <a:cubicBezTo>
                  <a:pt x="505" y="241"/>
                  <a:pt x="502" y="244"/>
                  <a:pt x="546" y="227"/>
                </a:cubicBezTo>
                <a:cubicBezTo>
                  <a:pt x="615" y="233"/>
                  <a:pt x="611" y="229"/>
                  <a:pt x="645" y="279"/>
                </a:cubicBezTo>
                <a:cubicBezTo>
                  <a:pt x="660" y="345"/>
                  <a:pt x="649" y="325"/>
                  <a:pt x="658" y="442"/>
                </a:cubicBezTo>
                <a:cubicBezTo>
                  <a:pt x="660" y="465"/>
                  <a:pt x="676" y="486"/>
                  <a:pt x="684" y="507"/>
                </a:cubicBezTo>
                <a:cubicBezTo>
                  <a:pt x="682" y="536"/>
                  <a:pt x="679" y="599"/>
                  <a:pt x="671" y="632"/>
                </a:cubicBezTo>
                <a:cubicBezTo>
                  <a:pt x="666" y="652"/>
                  <a:pt x="643" y="664"/>
                  <a:pt x="628" y="674"/>
                </a:cubicBezTo>
                <a:cubicBezTo>
                  <a:pt x="619" y="680"/>
                  <a:pt x="602" y="692"/>
                  <a:pt x="602" y="692"/>
                </a:cubicBezTo>
                <a:cubicBezTo>
                  <a:pt x="596" y="701"/>
                  <a:pt x="585" y="707"/>
                  <a:pt x="580" y="717"/>
                </a:cubicBezTo>
                <a:cubicBezTo>
                  <a:pt x="571" y="732"/>
                  <a:pt x="574" y="745"/>
                  <a:pt x="563" y="760"/>
                </a:cubicBezTo>
                <a:cubicBezTo>
                  <a:pt x="553" y="806"/>
                  <a:pt x="533" y="852"/>
                  <a:pt x="520" y="898"/>
                </a:cubicBezTo>
                <a:cubicBezTo>
                  <a:pt x="517" y="909"/>
                  <a:pt x="520" y="924"/>
                  <a:pt x="512" y="932"/>
                </a:cubicBezTo>
                <a:cubicBezTo>
                  <a:pt x="484" y="960"/>
                  <a:pt x="459" y="1001"/>
                  <a:pt x="447" y="1040"/>
                </a:cubicBezTo>
                <a:cubicBezTo>
                  <a:pt x="443" y="1099"/>
                  <a:pt x="448" y="1098"/>
                  <a:pt x="408" y="1126"/>
                </a:cubicBezTo>
                <a:cubicBezTo>
                  <a:pt x="302" y="1125"/>
                  <a:pt x="196" y="1125"/>
                  <a:pt x="90" y="1122"/>
                </a:cubicBezTo>
                <a:cubicBezTo>
                  <a:pt x="77" y="1122"/>
                  <a:pt x="52" y="1109"/>
                  <a:pt x="52" y="1109"/>
                </a:cubicBezTo>
                <a:cubicBezTo>
                  <a:pt x="36" y="1093"/>
                  <a:pt x="26" y="1075"/>
                  <a:pt x="13" y="1057"/>
                </a:cubicBezTo>
                <a:cubicBezTo>
                  <a:pt x="3" y="1015"/>
                  <a:pt x="3" y="982"/>
                  <a:pt x="26" y="945"/>
                </a:cubicBezTo>
                <a:cubicBezTo>
                  <a:pt x="44" y="915"/>
                  <a:pt x="43" y="920"/>
                  <a:pt x="69" y="894"/>
                </a:cubicBezTo>
                <a:cubicBezTo>
                  <a:pt x="73" y="890"/>
                  <a:pt x="82" y="881"/>
                  <a:pt x="82" y="881"/>
                </a:cubicBezTo>
                <a:cubicBezTo>
                  <a:pt x="95" y="838"/>
                  <a:pt x="73" y="827"/>
                  <a:pt x="35" y="821"/>
                </a:cubicBezTo>
                <a:cubicBezTo>
                  <a:pt x="22" y="786"/>
                  <a:pt x="35" y="827"/>
                  <a:pt x="35" y="748"/>
                </a:cubicBezTo>
                <a:cubicBezTo>
                  <a:pt x="35" y="711"/>
                  <a:pt x="11" y="646"/>
                  <a:pt x="0" y="610"/>
                </a:cubicBezTo>
                <a:cubicBezTo>
                  <a:pt x="5" y="512"/>
                  <a:pt x="6" y="526"/>
                  <a:pt x="35" y="451"/>
                </a:cubicBezTo>
                <a:cubicBezTo>
                  <a:pt x="41" y="416"/>
                  <a:pt x="58" y="382"/>
                  <a:pt x="69" y="348"/>
                </a:cubicBezTo>
                <a:cubicBezTo>
                  <a:pt x="72" y="326"/>
                  <a:pt x="76" y="312"/>
                  <a:pt x="82" y="292"/>
                </a:cubicBezTo>
                <a:cubicBezTo>
                  <a:pt x="84" y="239"/>
                  <a:pt x="73" y="177"/>
                  <a:pt x="120" y="141"/>
                </a:cubicBezTo>
                <a:cubicBezTo>
                  <a:pt x="130" y="117"/>
                  <a:pt x="137" y="96"/>
                  <a:pt x="159" y="81"/>
                </a:cubicBezTo>
                <a:cubicBezTo>
                  <a:pt x="160" y="74"/>
                  <a:pt x="163" y="60"/>
                  <a:pt x="163" y="60"/>
                </a:cubicBezTo>
                <a:lnTo>
                  <a:pt x="242" y="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custGeom>
            <a:avLst/>
            <a:gdLst/>
            <a:ahLst/>
            <a:rect l="l" t="t" r="r" b="b"/>
            <a:pathLst>
              <a:path w="654" h="1081">
                <a:moveTo>
                  <a:pt x="413" y="235"/>
                </a:moveTo>
                <a:cubicBezTo>
                  <a:pt x="437" y="270"/>
                  <a:pt x="421" y="392"/>
                  <a:pt x="486" y="398"/>
                </a:cubicBezTo>
                <a:cubicBezTo>
                  <a:pt x="512" y="400"/>
                  <a:pt x="538" y="401"/>
                  <a:pt x="564" y="402"/>
                </a:cubicBezTo>
                <a:cubicBezTo>
                  <a:pt x="593" y="422"/>
                  <a:pt x="583" y="411"/>
                  <a:pt x="598" y="432"/>
                </a:cubicBezTo>
                <a:cubicBezTo>
                  <a:pt x="593" y="452"/>
                  <a:pt x="591" y="460"/>
                  <a:pt x="577" y="475"/>
                </a:cubicBezTo>
                <a:cubicBezTo>
                  <a:pt x="569" y="497"/>
                  <a:pt x="580" y="489"/>
                  <a:pt x="598" y="505"/>
                </a:cubicBezTo>
                <a:cubicBezTo>
                  <a:pt x="609" y="541"/>
                  <a:pt x="609" y="568"/>
                  <a:pt x="581" y="596"/>
                </a:cubicBezTo>
                <a:cubicBezTo>
                  <a:pt x="576" y="612"/>
                  <a:pt x="565" y="618"/>
                  <a:pt x="559" y="634"/>
                </a:cubicBezTo>
                <a:cubicBezTo>
                  <a:pt x="580" y="648"/>
                  <a:pt x="603" y="658"/>
                  <a:pt x="624" y="673"/>
                </a:cubicBezTo>
                <a:cubicBezTo>
                  <a:pt x="633" y="688"/>
                  <a:pt x="642" y="698"/>
                  <a:pt x="645" y="716"/>
                </a:cubicBezTo>
                <a:cubicBezTo>
                  <a:pt x="648" y="735"/>
                  <a:pt x="654" y="772"/>
                  <a:pt x="654" y="772"/>
                </a:cubicBezTo>
                <a:cubicBezTo>
                  <a:pt x="648" y="821"/>
                  <a:pt x="649" y="850"/>
                  <a:pt x="598" y="862"/>
                </a:cubicBezTo>
                <a:cubicBezTo>
                  <a:pt x="582" y="861"/>
                  <a:pt x="566" y="863"/>
                  <a:pt x="551" y="858"/>
                </a:cubicBezTo>
                <a:cubicBezTo>
                  <a:pt x="538" y="854"/>
                  <a:pt x="545" y="839"/>
                  <a:pt x="538" y="832"/>
                </a:cubicBezTo>
                <a:cubicBezTo>
                  <a:pt x="530" y="824"/>
                  <a:pt x="515" y="826"/>
                  <a:pt x="504" y="824"/>
                </a:cubicBezTo>
                <a:cubicBezTo>
                  <a:pt x="480" y="826"/>
                  <a:pt x="431" y="815"/>
                  <a:pt x="422" y="845"/>
                </a:cubicBezTo>
                <a:cubicBezTo>
                  <a:pt x="418" y="885"/>
                  <a:pt x="407" y="908"/>
                  <a:pt x="396" y="944"/>
                </a:cubicBezTo>
                <a:cubicBezTo>
                  <a:pt x="401" y="978"/>
                  <a:pt x="408" y="1002"/>
                  <a:pt x="439" y="1021"/>
                </a:cubicBezTo>
                <a:cubicBezTo>
                  <a:pt x="445" y="1040"/>
                  <a:pt x="447" y="1054"/>
                  <a:pt x="426" y="1060"/>
                </a:cubicBezTo>
                <a:cubicBezTo>
                  <a:pt x="414" y="1079"/>
                  <a:pt x="405" y="1077"/>
                  <a:pt x="383" y="1081"/>
                </a:cubicBezTo>
                <a:cubicBezTo>
                  <a:pt x="329" y="1078"/>
                  <a:pt x="273" y="1066"/>
                  <a:pt x="220" y="1051"/>
                </a:cubicBezTo>
                <a:cubicBezTo>
                  <a:pt x="184" y="1054"/>
                  <a:pt x="154" y="1054"/>
                  <a:pt x="121" y="1064"/>
                </a:cubicBezTo>
                <a:cubicBezTo>
                  <a:pt x="66" y="1060"/>
                  <a:pt x="73" y="1064"/>
                  <a:pt x="39" y="1043"/>
                </a:cubicBezTo>
                <a:cubicBezTo>
                  <a:pt x="33" y="1034"/>
                  <a:pt x="19" y="1028"/>
                  <a:pt x="18" y="1017"/>
                </a:cubicBezTo>
                <a:cubicBezTo>
                  <a:pt x="12" y="966"/>
                  <a:pt x="32" y="919"/>
                  <a:pt x="44" y="871"/>
                </a:cubicBezTo>
                <a:cubicBezTo>
                  <a:pt x="47" y="842"/>
                  <a:pt x="48" y="809"/>
                  <a:pt x="65" y="785"/>
                </a:cubicBezTo>
                <a:cubicBezTo>
                  <a:pt x="75" y="713"/>
                  <a:pt x="59" y="638"/>
                  <a:pt x="52" y="566"/>
                </a:cubicBezTo>
                <a:cubicBezTo>
                  <a:pt x="56" y="448"/>
                  <a:pt x="40" y="453"/>
                  <a:pt x="87" y="385"/>
                </a:cubicBezTo>
                <a:cubicBezTo>
                  <a:pt x="80" y="347"/>
                  <a:pt x="57" y="314"/>
                  <a:pt x="35" y="282"/>
                </a:cubicBezTo>
                <a:cubicBezTo>
                  <a:pt x="32" y="273"/>
                  <a:pt x="24" y="265"/>
                  <a:pt x="22" y="256"/>
                </a:cubicBezTo>
                <a:cubicBezTo>
                  <a:pt x="1" y="165"/>
                  <a:pt x="29" y="240"/>
                  <a:pt x="13" y="200"/>
                </a:cubicBezTo>
                <a:cubicBezTo>
                  <a:pt x="12" y="190"/>
                  <a:pt x="11" y="180"/>
                  <a:pt x="9" y="170"/>
                </a:cubicBezTo>
                <a:cubicBezTo>
                  <a:pt x="7" y="161"/>
                  <a:pt x="1" y="144"/>
                  <a:pt x="1" y="144"/>
                </a:cubicBezTo>
                <a:cubicBezTo>
                  <a:pt x="2" y="125"/>
                  <a:pt x="0" y="106"/>
                  <a:pt x="5" y="88"/>
                </a:cubicBezTo>
                <a:cubicBezTo>
                  <a:pt x="14" y="53"/>
                  <a:pt x="107" y="41"/>
                  <a:pt x="130" y="37"/>
                </a:cubicBezTo>
                <a:cubicBezTo>
                  <a:pt x="158" y="25"/>
                  <a:pt x="177" y="18"/>
                  <a:pt x="207" y="11"/>
                </a:cubicBezTo>
                <a:cubicBezTo>
                  <a:pt x="216" y="9"/>
                  <a:pt x="233" y="3"/>
                  <a:pt x="233" y="3"/>
                </a:cubicBezTo>
                <a:cubicBezTo>
                  <a:pt x="268" y="5"/>
                  <a:pt x="306" y="0"/>
                  <a:pt x="336" y="20"/>
                </a:cubicBezTo>
                <a:cubicBezTo>
                  <a:pt x="344" y="33"/>
                  <a:pt x="362" y="58"/>
                  <a:pt x="362" y="58"/>
                </a:cubicBezTo>
                <a:cubicBezTo>
                  <a:pt x="370" y="85"/>
                  <a:pt x="378" y="108"/>
                  <a:pt x="383" y="136"/>
                </a:cubicBezTo>
                <a:cubicBezTo>
                  <a:pt x="388" y="195"/>
                  <a:pt x="388" y="214"/>
                  <a:pt x="430" y="25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custGeom>
            <a:avLst/>
            <a:gdLst/>
            <a:ahLst/>
            <a:rect l="l" t="t" r="r" b="b"/>
            <a:pathLst>
              <a:path w="580" h="1309">
                <a:moveTo>
                  <a:pt x="148" y="61"/>
                </a:moveTo>
                <a:cubicBezTo>
                  <a:pt x="173" y="53"/>
                  <a:pt x="190" y="30"/>
                  <a:pt x="216" y="21"/>
                </a:cubicBezTo>
                <a:cubicBezTo>
                  <a:pt x="351" y="26"/>
                  <a:pt x="326" y="0"/>
                  <a:pt x="348" y="89"/>
                </a:cubicBezTo>
                <a:cubicBezTo>
                  <a:pt x="344" y="131"/>
                  <a:pt x="352" y="150"/>
                  <a:pt x="308" y="157"/>
                </a:cubicBezTo>
                <a:cubicBezTo>
                  <a:pt x="315" y="178"/>
                  <a:pt x="340" y="198"/>
                  <a:pt x="360" y="205"/>
                </a:cubicBezTo>
                <a:cubicBezTo>
                  <a:pt x="376" y="221"/>
                  <a:pt x="391" y="242"/>
                  <a:pt x="404" y="261"/>
                </a:cubicBezTo>
                <a:cubicBezTo>
                  <a:pt x="409" y="269"/>
                  <a:pt x="420" y="285"/>
                  <a:pt x="420" y="285"/>
                </a:cubicBezTo>
                <a:cubicBezTo>
                  <a:pt x="423" y="296"/>
                  <a:pt x="424" y="330"/>
                  <a:pt x="432" y="337"/>
                </a:cubicBezTo>
                <a:cubicBezTo>
                  <a:pt x="466" y="367"/>
                  <a:pt x="526" y="363"/>
                  <a:pt x="564" y="365"/>
                </a:cubicBezTo>
                <a:cubicBezTo>
                  <a:pt x="579" y="425"/>
                  <a:pt x="580" y="490"/>
                  <a:pt x="560" y="549"/>
                </a:cubicBezTo>
                <a:cubicBezTo>
                  <a:pt x="558" y="580"/>
                  <a:pt x="549" y="631"/>
                  <a:pt x="556" y="665"/>
                </a:cubicBezTo>
                <a:cubicBezTo>
                  <a:pt x="551" y="691"/>
                  <a:pt x="547" y="709"/>
                  <a:pt x="544" y="737"/>
                </a:cubicBezTo>
                <a:cubicBezTo>
                  <a:pt x="540" y="858"/>
                  <a:pt x="543" y="839"/>
                  <a:pt x="516" y="921"/>
                </a:cubicBezTo>
                <a:cubicBezTo>
                  <a:pt x="513" y="931"/>
                  <a:pt x="510" y="948"/>
                  <a:pt x="504" y="957"/>
                </a:cubicBezTo>
                <a:cubicBezTo>
                  <a:pt x="496" y="969"/>
                  <a:pt x="481" y="1015"/>
                  <a:pt x="472" y="1021"/>
                </a:cubicBezTo>
                <a:cubicBezTo>
                  <a:pt x="462" y="1028"/>
                  <a:pt x="436" y="1033"/>
                  <a:pt x="436" y="1033"/>
                </a:cubicBezTo>
                <a:cubicBezTo>
                  <a:pt x="413" y="1064"/>
                  <a:pt x="409" y="1102"/>
                  <a:pt x="432" y="1137"/>
                </a:cubicBezTo>
                <a:cubicBezTo>
                  <a:pt x="437" y="1164"/>
                  <a:pt x="444" y="1194"/>
                  <a:pt x="460" y="1217"/>
                </a:cubicBezTo>
                <a:cubicBezTo>
                  <a:pt x="470" y="1257"/>
                  <a:pt x="469" y="1295"/>
                  <a:pt x="428" y="1309"/>
                </a:cubicBezTo>
                <a:cubicBezTo>
                  <a:pt x="365" y="1306"/>
                  <a:pt x="322" y="1299"/>
                  <a:pt x="264" y="1289"/>
                </a:cubicBezTo>
                <a:cubicBezTo>
                  <a:pt x="263" y="1273"/>
                  <a:pt x="264" y="1256"/>
                  <a:pt x="260" y="1241"/>
                </a:cubicBezTo>
                <a:cubicBezTo>
                  <a:pt x="257" y="1232"/>
                  <a:pt x="244" y="1217"/>
                  <a:pt x="244" y="1217"/>
                </a:cubicBezTo>
                <a:cubicBezTo>
                  <a:pt x="236" y="1218"/>
                  <a:pt x="226" y="1216"/>
                  <a:pt x="220" y="1221"/>
                </a:cubicBezTo>
                <a:cubicBezTo>
                  <a:pt x="214" y="1227"/>
                  <a:pt x="212" y="1245"/>
                  <a:pt x="212" y="1245"/>
                </a:cubicBezTo>
                <a:cubicBezTo>
                  <a:pt x="206" y="1302"/>
                  <a:pt x="199" y="1300"/>
                  <a:pt x="140" y="1305"/>
                </a:cubicBezTo>
                <a:cubicBezTo>
                  <a:pt x="108" y="1284"/>
                  <a:pt x="121" y="1297"/>
                  <a:pt x="100" y="1265"/>
                </a:cubicBezTo>
                <a:cubicBezTo>
                  <a:pt x="97" y="1261"/>
                  <a:pt x="92" y="1253"/>
                  <a:pt x="92" y="1253"/>
                </a:cubicBezTo>
                <a:cubicBezTo>
                  <a:pt x="87" y="1231"/>
                  <a:pt x="79" y="1210"/>
                  <a:pt x="72" y="1189"/>
                </a:cubicBezTo>
                <a:cubicBezTo>
                  <a:pt x="79" y="1168"/>
                  <a:pt x="92" y="1156"/>
                  <a:pt x="112" y="1149"/>
                </a:cubicBezTo>
                <a:cubicBezTo>
                  <a:pt x="126" y="1128"/>
                  <a:pt x="143" y="1115"/>
                  <a:pt x="156" y="1089"/>
                </a:cubicBezTo>
                <a:cubicBezTo>
                  <a:pt x="152" y="1022"/>
                  <a:pt x="151" y="955"/>
                  <a:pt x="164" y="889"/>
                </a:cubicBezTo>
                <a:cubicBezTo>
                  <a:pt x="162" y="851"/>
                  <a:pt x="164" y="769"/>
                  <a:pt x="140" y="733"/>
                </a:cubicBezTo>
                <a:cubicBezTo>
                  <a:pt x="136" y="681"/>
                  <a:pt x="107" y="618"/>
                  <a:pt x="156" y="585"/>
                </a:cubicBezTo>
                <a:cubicBezTo>
                  <a:pt x="164" y="561"/>
                  <a:pt x="180" y="541"/>
                  <a:pt x="188" y="517"/>
                </a:cubicBezTo>
                <a:cubicBezTo>
                  <a:pt x="186" y="503"/>
                  <a:pt x="185" y="473"/>
                  <a:pt x="176" y="461"/>
                </a:cubicBezTo>
                <a:cubicBezTo>
                  <a:pt x="155" y="435"/>
                  <a:pt x="124" y="425"/>
                  <a:pt x="96" y="409"/>
                </a:cubicBezTo>
                <a:cubicBezTo>
                  <a:pt x="80" y="400"/>
                  <a:pt x="76" y="400"/>
                  <a:pt x="56" y="393"/>
                </a:cubicBezTo>
                <a:cubicBezTo>
                  <a:pt x="47" y="390"/>
                  <a:pt x="40" y="382"/>
                  <a:pt x="32" y="377"/>
                </a:cubicBezTo>
                <a:cubicBezTo>
                  <a:pt x="28" y="374"/>
                  <a:pt x="20" y="369"/>
                  <a:pt x="20" y="369"/>
                </a:cubicBezTo>
                <a:cubicBezTo>
                  <a:pt x="17" y="361"/>
                  <a:pt x="8" y="354"/>
                  <a:pt x="8" y="345"/>
                </a:cubicBezTo>
                <a:cubicBezTo>
                  <a:pt x="7" y="297"/>
                  <a:pt x="0" y="189"/>
                  <a:pt x="52" y="149"/>
                </a:cubicBezTo>
                <a:cubicBezTo>
                  <a:pt x="67" y="137"/>
                  <a:pt x="84" y="128"/>
                  <a:pt x="100" y="117"/>
                </a:cubicBezTo>
                <a:cubicBezTo>
                  <a:pt x="114" y="108"/>
                  <a:pt x="119" y="99"/>
                  <a:pt x="136" y="93"/>
                </a:cubicBezTo>
                <a:cubicBezTo>
                  <a:pt x="140" y="81"/>
                  <a:pt x="148" y="73"/>
                  <a:pt x="148" y="61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custGeom>
            <a:avLst/>
            <a:gdLst/>
            <a:ahLst/>
            <a:rect l="l" t="t" r="r" b="b"/>
            <a:pathLst>
              <a:path w="592" h="1312">
                <a:moveTo>
                  <a:pt x="312" y="96"/>
                </a:moveTo>
                <a:cubicBezTo>
                  <a:pt x="323" y="100"/>
                  <a:pt x="349" y="105"/>
                  <a:pt x="360" y="112"/>
                </a:cubicBezTo>
                <a:cubicBezTo>
                  <a:pt x="388" y="130"/>
                  <a:pt x="375" y="125"/>
                  <a:pt x="396" y="132"/>
                </a:cubicBezTo>
                <a:cubicBezTo>
                  <a:pt x="410" y="146"/>
                  <a:pt x="444" y="167"/>
                  <a:pt x="464" y="180"/>
                </a:cubicBezTo>
                <a:cubicBezTo>
                  <a:pt x="473" y="193"/>
                  <a:pt x="483" y="199"/>
                  <a:pt x="492" y="212"/>
                </a:cubicBezTo>
                <a:cubicBezTo>
                  <a:pt x="486" y="248"/>
                  <a:pt x="466" y="253"/>
                  <a:pt x="456" y="284"/>
                </a:cubicBezTo>
                <a:cubicBezTo>
                  <a:pt x="462" y="308"/>
                  <a:pt x="478" y="313"/>
                  <a:pt x="500" y="320"/>
                </a:cubicBezTo>
                <a:cubicBezTo>
                  <a:pt x="486" y="330"/>
                  <a:pt x="468" y="347"/>
                  <a:pt x="452" y="352"/>
                </a:cubicBezTo>
                <a:cubicBezTo>
                  <a:pt x="445" y="361"/>
                  <a:pt x="433" y="369"/>
                  <a:pt x="432" y="380"/>
                </a:cubicBezTo>
                <a:cubicBezTo>
                  <a:pt x="427" y="435"/>
                  <a:pt x="476" y="439"/>
                  <a:pt x="504" y="472"/>
                </a:cubicBezTo>
                <a:cubicBezTo>
                  <a:pt x="547" y="522"/>
                  <a:pt x="486" y="459"/>
                  <a:pt x="532" y="496"/>
                </a:cubicBezTo>
                <a:cubicBezTo>
                  <a:pt x="541" y="503"/>
                  <a:pt x="556" y="520"/>
                  <a:pt x="556" y="520"/>
                </a:cubicBezTo>
                <a:cubicBezTo>
                  <a:pt x="569" y="558"/>
                  <a:pt x="562" y="598"/>
                  <a:pt x="572" y="636"/>
                </a:cubicBezTo>
                <a:cubicBezTo>
                  <a:pt x="575" y="650"/>
                  <a:pt x="580" y="663"/>
                  <a:pt x="584" y="676"/>
                </a:cubicBezTo>
                <a:cubicBezTo>
                  <a:pt x="586" y="684"/>
                  <a:pt x="592" y="700"/>
                  <a:pt x="592" y="700"/>
                </a:cubicBezTo>
                <a:cubicBezTo>
                  <a:pt x="589" y="749"/>
                  <a:pt x="582" y="831"/>
                  <a:pt x="552" y="876"/>
                </a:cubicBezTo>
                <a:cubicBezTo>
                  <a:pt x="548" y="891"/>
                  <a:pt x="544" y="906"/>
                  <a:pt x="540" y="920"/>
                </a:cubicBezTo>
                <a:cubicBezTo>
                  <a:pt x="538" y="928"/>
                  <a:pt x="532" y="944"/>
                  <a:pt x="532" y="944"/>
                </a:cubicBezTo>
                <a:cubicBezTo>
                  <a:pt x="538" y="1022"/>
                  <a:pt x="535" y="1099"/>
                  <a:pt x="524" y="1176"/>
                </a:cubicBezTo>
                <a:cubicBezTo>
                  <a:pt x="521" y="1226"/>
                  <a:pt x="519" y="1260"/>
                  <a:pt x="492" y="1300"/>
                </a:cubicBezTo>
                <a:cubicBezTo>
                  <a:pt x="486" y="1310"/>
                  <a:pt x="455" y="1308"/>
                  <a:pt x="444" y="1312"/>
                </a:cubicBezTo>
                <a:cubicBezTo>
                  <a:pt x="430" y="1312"/>
                  <a:pt x="282" y="1312"/>
                  <a:pt x="224" y="1304"/>
                </a:cubicBezTo>
                <a:cubicBezTo>
                  <a:pt x="171" y="1296"/>
                  <a:pt x="121" y="1277"/>
                  <a:pt x="68" y="1268"/>
                </a:cubicBezTo>
                <a:cubicBezTo>
                  <a:pt x="46" y="1257"/>
                  <a:pt x="24" y="1252"/>
                  <a:pt x="0" y="1248"/>
                </a:cubicBezTo>
                <a:cubicBezTo>
                  <a:pt x="7" y="1218"/>
                  <a:pt x="15" y="1191"/>
                  <a:pt x="40" y="1172"/>
                </a:cubicBezTo>
                <a:cubicBezTo>
                  <a:pt x="49" y="1146"/>
                  <a:pt x="63" y="1145"/>
                  <a:pt x="80" y="1120"/>
                </a:cubicBezTo>
                <a:cubicBezTo>
                  <a:pt x="95" y="1098"/>
                  <a:pt x="105" y="1074"/>
                  <a:pt x="120" y="1052"/>
                </a:cubicBezTo>
                <a:cubicBezTo>
                  <a:pt x="137" y="983"/>
                  <a:pt x="124" y="928"/>
                  <a:pt x="100" y="868"/>
                </a:cubicBezTo>
                <a:cubicBezTo>
                  <a:pt x="97" y="838"/>
                  <a:pt x="93" y="813"/>
                  <a:pt x="88" y="784"/>
                </a:cubicBezTo>
                <a:cubicBezTo>
                  <a:pt x="87" y="623"/>
                  <a:pt x="81" y="461"/>
                  <a:pt x="84" y="300"/>
                </a:cubicBezTo>
                <a:cubicBezTo>
                  <a:pt x="84" y="295"/>
                  <a:pt x="96" y="297"/>
                  <a:pt x="96" y="292"/>
                </a:cubicBezTo>
                <a:cubicBezTo>
                  <a:pt x="105" y="161"/>
                  <a:pt x="53" y="69"/>
                  <a:pt x="156" y="0"/>
                </a:cubicBezTo>
                <a:cubicBezTo>
                  <a:pt x="218" y="5"/>
                  <a:pt x="211" y="1"/>
                  <a:pt x="228" y="52"/>
                </a:cubicBezTo>
                <a:cubicBezTo>
                  <a:pt x="223" y="145"/>
                  <a:pt x="201" y="142"/>
                  <a:pt x="288" y="136"/>
                </a:cubicBezTo>
                <a:cubicBezTo>
                  <a:pt x="303" y="126"/>
                  <a:pt x="321" y="114"/>
                  <a:pt x="312" y="9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custGeom>
            <a:avLst/>
            <a:gdLst/>
            <a:ahLst/>
            <a:rect l="l" t="t" r="r" b="b"/>
            <a:pathLst>
              <a:path w="615" h="1128">
                <a:moveTo>
                  <a:pt x="172" y="4"/>
                </a:moveTo>
                <a:cubicBezTo>
                  <a:pt x="202" y="10"/>
                  <a:pt x="225" y="23"/>
                  <a:pt x="252" y="32"/>
                </a:cubicBezTo>
                <a:cubicBezTo>
                  <a:pt x="269" y="83"/>
                  <a:pt x="278" y="136"/>
                  <a:pt x="304" y="184"/>
                </a:cubicBezTo>
                <a:cubicBezTo>
                  <a:pt x="312" y="198"/>
                  <a:pt x="317" y="209"/>
                  <a:pt x="332" y="216"/>
                </a:cubicBezTo>
                <a:cubicBezTo>
                  <a:pt x="340" y="219"/>
                  <a:pt x="356" y="224"/>
                  <a:pt x="356" y="224"/>
                </a:cubicBezTo>
                <a:cubicBezTo>
                  <a:pt x="380" y="223"/>
                  <a:pt x="404" y="223"/>
                  <a:pt x="428" y="220"/>
                </a:cubicBezTo>
                <a:cubicBezTo>
                  <a:pt x="444" y="218"/>
                  <a:pt x="464" y="188"/>
                  <a:pt x="464" y="188"/>
                </a:cubicBezTo>
                <a:cubicBezTo>
                  <a:pt x="474" y="159"/>
                  <a:pt x="494" y="126"/>
                  <a:pt x="524" y="116"/>
                </a:cubicBezTo>
                <a:cubicBezTo>
                  <a:pt x="545" y="118"/>
                  <a:pt x="561" y="113"/>
                  <a:pt x="576" y="128"/>
                </a:cubicBezTo>
                <a:cubicBezTo>
                  <a:pt x="587" y="139"/>
                  <a:pt x="608" y="164"/>
                  <a:pt x="608" y="164"/>
                </a:cubicBezTo>
                <a:cubicBezTo>
                  <a:pt x="615" y="184"/>
                  <a:pt x="614" y="200"/>
                  <a:pt x="596" y="212"/>
                </a:cubicBezTo>
                <a:cubicBezTo>
                  <a:pt x="577" y="241"/>
                  <a:pt x="587" y="229"/>
                  <a:pt x="568" y="248"/>
                </a:cubicBezTo>
                <a:cubicBezTo>
                  <a:pt x="565" y="256"/>
                  <a:pt x="563" y="264"/>
                  <a:pt x="560" y="272"/>
                </a:cubicBezTo>
                <a:cubicBezTo>
                  <a:pt x="559" y="276"/>
                  <a:pt x="556" y="284"/>
                  <a:pt x="556" y="284"/>
                </a:cubicBezTo>
                <a:cubicBezTo>
                  <a:pt x="542" y="394"/>
                  <a:pt x="406" y="396"/>
                  <a:pt x="320" y="400"/>
                </a:cubicBezTo>
                <a:cubicBezTo>
                  <a:pt x="324" y="430"/>
                  <a:pt x="319" y="433"/>
                  <a:pt x="348" y="452"/>
                </a:cubicBezTo>
                <a:cubicBezTo>
                  <a:pt x="356" y="457"/>
                  <a:pt x="372" y="468"/>
                  <a:pt x="372" y="468"/>
                </a:cubicBezTo>
                <a:cubicBezTo>
                  <a:pt x="382" y="483"/>
                  <a:pt x="393" y="503"/>
                  <a:pt x="400" y="520"/>
                </a:cubicBezTo>
                <a:cubicBezTo>
                  <a:pt x="403" y="528"/>
                  <a:pt x="408" y="544"/>
                  <a:pt x="408" y="544"/>
                </a:cubicBezTo>
                <a:cubicBezTo>
                  <a:pt x="409" y="589"/>
                  <a:pt x="403" y="686"/>
                  <a:pt x="436" y="736"/>
                </a:cubicBezTo>
                <a:cubicBezTo>
                  <a:pt x="440" y="753"/>
                  <a:pt x="448" y="767"/>
                  <a:pt x="452" y="784"/>
                </a:cubicBezTo>
                <a:cubicBezTo>
                  <a:pt x="451" y="828"/>
                  <a:pt x="451" y="872"/>
                  <a:pt x="448" y="916"/>
                </a:cubicBezTo>
                <a:cubicBezTo>
                  <a:pt x="447" y="924"/>
                  <a:pt x="440" y="940"/>
                  <a:pt x="440" y="940"/>
                </a:cubicBezTo>
                <a:cubicBezTo>
                  <a:pt x="446" y="963"/>
                  <a:pt x="454" y="985"/>
                  <a:pt x="460" y="1008"/>
                </a:cubicBezTo>
                <a:cubicBezTo>
                  <a:pt x="460" y="1023"/>
                  <a:pt x="449" y="1098"/>
                  <a:pt x="404" y="1128"/>
                </a:cubicBezTo>
                <a:cubicBezTo>
                  <a:pt x="329" y="1127"/>
                  <a:pt x="326" y="1117"/>
                  <a:pt x="252" y="1112"/>
                </a:cubicBezTo>
                <a:cubicBezTo>
                  <a:pt x="248" y="1112"/>
                  <a:pt x="204" y="1121"/>
                  <a:pt x="200" y="1120"/>
                </a:cubicBezTo>
                <a:cubicBezTo>
                  <a:pt x="179" y="1115"/>
                  <a:pt x="149" y="1105"/>
                  <a:pt x="128" y="1104"/>
                </a:cubicBezTo>
                <a:cubicBezTo>
                  <a:pt x="104" y="1092"/>
                  <a:pt x="124" y="1081"/>
                  <a:pt x="108" y="1060"/>
                </a:cubicBezTo>
                <a:cubicBezTo>
                  <a:pt x="100" y="1049"/>
                  <a:pt x="96" y="996"/>
                  <a:pt x="96" y="996"/>
                </a:cubicBezTo>
                <a:cubicBezTo>
                  <a:pt x="98" y="953"/>
                  <a:pt x="127" y="932"/>
                  <a:pt x="100" y="892"/>
                </a:cubicBezTo>
                <a:cubicBezTo>
                  <a:pt x="102" y="787"/>
                  <a:pt x="36" y="783"/>
                  <a:pt x="64" y="700"/>
                </a:cubicBezTo>
                <a:cubicBezTo>
                  <a:pt x="68" y="667"/>
                  <a:pt x="69" y="634"/>
                  <a:pt x="84" y="604"/>
                </a:cubicBezTo>
                <a:cubicBezTo>
                  <a:pt x="87" y="580"/>
                  <a:pt x="88" y="555"/>
                  <a:pt x="96" y="532"/>
                </a:cubicBezTo>
                <a:cubicBezTo>
                  <a:pt x="101" y="497"/>
                  <a:pt x="105" y="471"/>
                  <a:pt x="96" y="436"/>
                </a:cubicBezTo>
                <a:cubicBezTo>
                  <a:pt x="95" y="407"/>
                  <a:pt x="104" y="329"/>
                  <a:pt x="80" y="292"/>
                </a:cubicBezTo>
                <a:cubicBezTo>
                  <a:pt x="76" y="263"/>
                  <a:pt x="69" y="233"/>
                  <a:pt x="52" y="208"/>
                </a:cubicBezTo>
                <a:cubicBezTo>
                  <a:pt x="48" y="192"/>
                  <a:pt x="49" y="190"/>
                  <a:pt x="40" y="176"/>
                </a:cubicBezTo>
                <a:cubicBezTo>
                  <a:pt x="32" y="164"/>
                  <a:pt x="16" y="140"/>
                  <a:pt x="16" y="140"/>
                </a:cubicBezTo>
                <a:cubicBezTo>
                  <a:pt x="13" y="126"/>
                  <a:pt x="5" y="114"/>
                  <a:pt x="4" y="100"/>
                </a:cubicBezTo>
                <a:cubicBezTo>
                  <a:pt x="0" y="50"/>
                  <a:pt x="42" y="14"/>
                  <a:pt x="84" y="0"/>
                </a:cubicBezTo>
                <a:cubicBezTo>
                  <a:pt x="107" y="1"/>
                  <a:pt x="129" y="2"/>
                  <a:pt x="152" y="4"/>
                </a:cubicBezTo>
                <a:cubicBezTo>
                  <a:pt x="173" y="6"/>
                  <a:pt x="172" y="15"/>
                  <a:pt x="172" y="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custGeom>
            <a:avLst/>
            <a:gdLst/>
            <a:ahLst/>
            <a:rect l="l" t="t" r="r" b="b"/>
            <a:pathLst>
              <a:path w="591" h="1156">
                <a:moveTo>
                  <a:pt x="459" y="124"/>
                </a:moveTo>
                <a:cubicBezTo>
                  <a:pt x="445" y="145"/>
                  <a:pt x="432" y="130"/>
                  <a:pt x="447" y="152"/>
                </a:cubicBezTo>
                <a:cubicBezTo>
                  <a:pt x="450" y="192"/>
                  <a:pt x="445" y="204"/>
                  <a:pt x="475" y="224"/>
                </a:cubicBezTo>
                <a:cubicBezTo>
                  <a:pt x="492" y="249"/>
                  <a:pt x="497" y="283"/>
                  <a:pt x="523" y="300"/>
                </a:cubicBezTo>
                <a:cubicBezTo>
                  <a:pt x="528" y="315"/>
                  <a:pt x="538" y="323"/>
                  <a:pt x="547" y="336"/>
                </a:cubicBezTo>
                <a:cubicBezTo>
                  <a:pt x="552" y="357"/>
                  <a:pt x="556" y="377"/>
                  <a:pt x="567" y="396"/>
                </a:cubicBezTo>
                <a:cubicBezTo>
                  <a:pt x="572" y="404"/>
                  <a:pt x="578" y="412"/>
                  <a:pt x="583" y="420"/>
                </a:cubicBezTo>
                <a:cubicBezTo>
                  <a:pt x="586" y="424"/>
                  <a:pt x="591" y="432"/>
                  <a:pt x="591" y="432"/>
                </a:cubicBezTo>
                <a:cubicBezTo>
                  <a:pt x="590" y="453"/>
                  <a:pt x="590" y="475"/>
                  <a:pt x="587" y="496"/>
                </a:cubicBezTo>
                <a:cubicBezTo>
                  <a:pt x="585" y="509"/>
                  <a:pt x="575" y="532"/>
                  <a:pt x="575" y="532"/>
                </a:cubicBezTo>
                <a:cubicBezTo>
                  <a:pt x="574" y="541"/>
                  <a:pt x="573" y="551"/>
                  <a:pt x="571" y="560"/>
                </a:cubicBezTo>
                <a:cubicBezTo>
                  <a:pt x="569" y="571"/>
                  <a:pt x="563" y="592"/>
                  <a:pt x="563" y="592"/>
                </a:cubicBezTo>
                <a:cubicBezTo>
                  <a:pt x="565" y="640"/>
                  <a:pt x="575" y="726"/>
                  <a:pt x="567" y="780"/>
                </a:cubicBezTo>
                <a:cubicBezTo>
                  <a:pt x="565" y="794"/>
                  <a:pt x="559" y="807"/>
                  <a:pt x="555" y="820"/>
                </a:cubicBezTo>
                <a:cubicBezTo>
                  <a:pt x="553" y="828"/>
                  <a:pt x="547" y="844"/>
                  <a:pt x="547" y="844"/>
                </a:cubicBezTo>
                <a:cubicBezTo>
                  <a:pt x="545" y="916"/>
                  <a:pt x="544" y="986"/>
                  <a:pt x="527" y="1056"/>
                </a:cubicBezTo>
                <a:cubicBezTo>
                  <a:pt x="523" y="1071"/>
                  <a:pt x="507" y="1139"/>
                  <a:pt x="495" y="1148"/>
                </a:cubicBezTo>
                <a:cubicBezTo>
                  <a:pt x="488" y="1153"/>
                  <a:pt x="471" y="1156"/>
                  <a:pt x="471" y="1156"/>
                </a:cubicBezTo>
                <a:cubicBezTo>
                  <a:pt x="375" y="1152"/>
                  <a:pt x="279" y="1147"/>
                  <a:pt x="183" y="1140"/>
                </a:cubicBezTo>
                <a:cubicBezTo>
                  <a:pt x="159" y="1132"/>
                  <a:pt x="159" y="1123"/>
                  <a:pt x="151" y="1100"/>
                </a:cubicBezTo>
                <a:cubicBezTo>
                  <a:pt x="158" y="1060"/>
                  <a:pt x="181" y="1030"/>
                  <a:pt x="191" y="992"/>
                </a:cubicBezTo>
                <a:cubicBezTo>
                  <a:pt x="205" y="934"/>
                  <a:pt x="211" y="874"/>
                  <a:pt x="223" y="816"/>
                </a:cubicBezTo>
                <a:cubicBezTo>
                  <a:pt x="220" y="717"/>
                  <a:pt x="237" y="641"/>
                  <a:pt x="203" y="664"/>
                </a:cubicBezTo>
                <a:cubicBezTo>
                  <a:pt x="179" y="725"/>
                  <a:pt x="199" y="779"/>
                  <a:pt x="123" y="804"/>
                </a:cubicBezTo>
                <a:cubicBezTo>
                  <a:pt x="104" y="803"/>
                  <a:pt x="86" y="803"/>
                  <a:pt x="67" y="800"/>
                </a:cubicBezTo>
                <a:cubicBezTo>
                  <a:pt x="59" y="799"/>
                  <a:pt x="43" y="792"/>
                  <a:pt x="43" y="792"/>
                </a:cubicBezTo>
                <a:cubicBezTo>
                  <a:pt x="32" y="781"/>
                  <a:pt x="15" y="756"/>
                  <a:pt x="15" y="756"/>
                </a:cubicBezTo>
                <a:cubicBezTo>
                  <a:pt x="0" y="697"/>
                  <a:pt x="32" y="651"/>
                  <a:pt x="71" y="612"/>
                </a:cubicBezTo>
                <a:cubicBezTo>
                  <a:pt x="82" y="601"/>
                  <a:pt x="94" y="585"/>
                  <a:pt x="107" y="576"/>
                </a:cubicBezTo>
                <a:cubicBezTo>
                  <a:pt x="115" y="571"/>
                  <a:pt x="131" y="560"/>
                  <a:pt x="131" y="560"/>
                </a:cubicBezTo>
                <a:cubicBezTo>
                  <a:pt x="146" y="516"/>
                  <a:pt x="122" y="583"/>
                  <a:pt x="143" y="536"/>
                </a:cubicBezTo>
                <a:cubicBezTo>
                  <a:pt x="153" y="514"/>
                  <a:pt x="156" y="490"/>
                  <a:pt x="167" y="468"/>
                </a:cubicBezTo>
                <a:cubicBezTo>
                  <a:pt x="155" y="433"/>
                  <a:pt x="138" y="399"/>
                  <a:pt x="111" y="372"/>
                </a:cubicBezTo>
                <a:cubicBezTo>
                  <a:pt x="120" y="337"/>
                  <a:pt x="159" y="331"/>
                  <a:pt x="171" y="296"/>
                </a:cubicBezTo>
                <a:cubicBezTo>
                  <a:pt x="172" y="261"/>
                  <a:pt x="171" y="227"/>
                  <a:pt x="175" y="192"/>
                </a:cubicBezTo>
                <a:cubicBezTo>
                  <a:pt x="175" y="187"/>
                  <a:pt x="181" y="184"/>
                  <a:pt x="183" y="180"/>
                </a:cubicBezTo>
                <a:cubicBezTo>
                  <a:pt x="191" y="162"/>
                  <a:pt x="195" y="124"/>
                  <a:pt x="195" y="124"/>
                </a:cubicBezTo>
                <a:cubicBezTo>
                  <a:pt x="198" y="92"/>
                  <a:pt x="198" y="52"/>
                  <a:pt x="227" y="32"/>
                </a:cubicBezTo>
                <a:cubicBezTo>
                  <a:pt x="240" y="12"/>
                  <a:pt x="265" y="7"/>
                  <a:pt x="287" y="0"/>
                </a:cubicBezTo>
                <a:cubicBezTo>
                  <a:pt x="338" y="7"/>
                  <a:pt x="371" y="19"/>
                  <a:pt x="415" y="44"/>
                </a:cubicBezTo>
                <a:cubicBezTo>
                  <a:pt x="438" y="57"/>
                  <a:pt x="416" y="37"/>
                  <a:pt x="439" y="56"/>
                </a:cubicBezTo>
                <a:cubicBezTo>
                  <a:pt x="452" y="67"/>
                  <a:pt x="457" y="79"/>
                  <a:pt x="471" y="88"/>
                </a:cubicBezTo>
                <a:cubicBezTo>
                  <a:pt x="471" y="88"/>
                  <a:pt x="486" y="109"/>
                  <a:pt x="483" y="112"/>
                </a:cubicBezTo>
                <a:cubicBezTo>
                  <a:pt x="458" y="137"/>
                  <a:pt x="459" y="109"/>
                  <a:pt x="459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custGeom>
            <a:avLst/>
            <a:gdLst/>
            <a:ahLst/>
            <a:rect l="l" t="t" r="r" b="b"/>
            <a:pathLst>
              <a:path w="596" h="1168">
                <a:moveTo>
                  <a:pt x="540" y="0"/>
                </a:moveTo>
                <a:cubicBezTo>
                  <a:pt x="554" y="5"/>
                  <a:pt x="576" y="28"/>
                  <a:pt x="576" y="28"/>
                </a:cubicBezTo>
                <a:cubicBezTo>
                  <a:pt x="580" y="40"/>
                  <a:pt x="584" y="52"/>
                  <a:pt x="588" y="64"/>
                </a:cubicBezTo>
                <a:cubicBezTo>
                  <a:pt x="589" y="68"/>
                  <a:pt x="592" y="76"/>
                  <a:pt x="592" y="76"/>
                </a:cubicBezTo>
                <a:cubicBezTo>
                  <a:pt x="589" y="193"/>
                  <a:pt x="596" y="179"/>
                  <a:pt x="580" y="244"/>
                </a:cubicBezTo>
                <a:cubicBezTo>
                  <a:pt x="583" y="288"/>
                  <a:pt x="586" y="316"/>
                  <a:pt x="596" y="356"/>
                </a:cubicBezTo>
                <a:cubicBezTo>
                  <a:pt x="583" y="446"/>
                  <a:pt x="593" y="430"/>
                  <a:pt x="584" y="584"/>
                </a:cubicBezTo>
                <a:cubicBezTo>
                  <a:pt x="583" y="609"/>
                  <a:pt x="566" y="634"/>
                  <a:pt x="552" y="652"/>
                </a:cubicBezTo>
                <a:cubicBezTo>
                  <a:pt x="546" y="660"/>
                  <a:pt x="536" y="676"/>
                  <a:pt x="536" y="676"/>
                </a:cubicBezTo>
                <a:cubicBezTo>
                  <a:pt x="533" y="707"/>
                  <a:pt x="528" y="743"/>
                  <a:pt x="512" y="772"/>
                </a:cubicBezTo>
                <a:cubicBezTo>
                  <a:pt x="499" y="795"/>
                  <a:pt x="490" y="810"/>
                  <a:pt x="484" y="836"/>
                </a:cubicBezTo>
                <a:cubicBezTo>
                  <a:pt x="485" y="868"/>
                  <a:pt x="486" y="900"/>
                  <a:pt x="488" y="932"/>
                </a:cubicBezTo>
                <a:cubicBezTo>
                  <a:pt x="491" y="970"/>
                  <a:pt x="523" y="1003"/>
                  <a:pt x="532" y="1040"/>
                </a:cubicBezTo>
                <a:cubicBezTo>
                  <a:pt x="528" y="1102"/>
                  <a:pt x="524" y="1147"/>
                  <a:pt x="460" y="1168"/>
                </a:cubicBezTo>
                <a:cubicBezTo>
                  <a:pt x="421" y="1163"/>
                  <a:pt x="391" y="1146"/>
                  <a:pt x="352" y="1140"/>
                </a:cubicBezTo>
                <a:cubicBezTo>
                  <a:pt x="320" y="1129"/>
                  <a:pt x="285" y="1129"/>
                  <a:pt x="252" y="1124"/>
                </a:cubicBezTo>
                <a:cubicBezTo>
                  <a:pt x="239" y="1115"/>
                  <a:pt x="208" y="1108"/>
                  <a:pt x="208" y="1108"/>
                </a:cubicBezTo>
                <a:cubicBezTo>
                  <a:pt x="199" y="1095"/>
                  <a:pt x="189" y="1083"/>
                  <a:pt x="184" y="1068"/>
                </a:cubicBezTo>
                <a:cubicBezTo>
                  <a:pt x="189" y="1006"/>
                  <a:pt x="212" y="952"/>
                  <a:pt x="224" y="892"/>
                </a:cubicBezTo>
                <a:cubicBezTo>
                  <a:pt x="224" y="891"/>
                  <a:pt x="218" y="859"/>
                  <a:pt x="216" y="856"/>
                </a:cubicBezTo>
                <a:cubicBezTo>
                  <a:pt x="197" y="823"/>
                  <a:pt x="150" y="806"/>
                  <a:pt x="120" y="784"/>
                </a:cubicBezTo>
                <a:cubicBezTo>
                  <a:pt x="104" y="773"/>
                  <a:pt x="96" y="755"/>
                  <a:pt x="80" y="744"/>
                </a:cubicBezTo>
                <a:cubicBezTo>
                  <a:pt x="77" y="736"/>
                  <a:pt x="69" y="729"/>
                  <a:pt x="68" y="720"/>
                </a:cubicBezTo>
                <a:cubicBezTo>
                  <a:pt x="67" y="708"/>
                  <a:pt x="70" y="696"/>
                  <a:pt x="72" y="684"/>
                </a:cubicBezTo>
                <a:cubicBezTo>
                  <a:pt x="78" y="656"/>
                  <a:pt x="91" y="657"/>
                  <a:pt x="64" y="664"/>
                </a:cubicBezTo>
                <a:cubicBezTo>
                  <a:pt x="43" y="657"/>
                  <a:pt x="22" y="655"/>
                  <a:pt x="0" y="652"/>
                </a:cubicBezTo>
                <a:cubicBezTo>
                  <a:pt x="6" y="627"/>
                  <a:pt x="10" y="601"/>
                  <a:pt x="16" y="576"/>
                </a:cubicBezTo>
                <a:cubicBezTo>
                  <a:pt x="20" y="512"/>
                  <a:pt x="24" y="432"/>
                  <a:pt x="84" y="392"/>
                </a:cubicBezTo>
                <a:cubicBezTo>
                  <a:pt x="91" y="371"/>
                  <a:pt x="86" y="384"/>
                  <a:pt x="104" y="356"/>
                </a:cubicBezTo>
                <a:cubicBezTo>
                  <a:pt x="107" y="352"/>
                  <a:pt x="112" y="344"/>
                  <a:pt x="112" y="344"/>
                </a:cubicBezTo>
                <a:cubicBezTo>
                  <a:pt x="115" y="332"/>
                  <a:pt x="123" y="321"/>
                  <a:pt x="124" y="308"/>
                </a:cubicBezTo>
                <a:cubicBezTo>
                  <a:pt x="130" y="258"/>
                  <a:pt x="122" y="197"/>
                  <a:pt x="152" y="152"/>
                </a:cubicBezTo>
                <a:cubicBezTo>
                  <a:pt x="167" y="93"/>
                  <a:pt x="182" y="22"/>
                  <a:pt x="248" y="0"/>
                </a:cubicBezTo>
                <a:cubicBezTo>
                  <a:pt x="264" y="1"/>
                  <a:pt x="280" y="1"/>
                  <a:pt x="296" y="4"/>
                </a:cubicBezTo>
                <a:cubicBezTo>
                  <a:pt x="304" y="5"/>
                  <a:pt x="320" y="12"/>
                  <a:pt x="320" y="12"/>
                </a:cubicBezTo>
                <a:cubicBezTo>
                  <a:pt x="334" y="22"/>
                  <a:pt x="346" y="27"/>
                  <a:pt x="360" y="36"/>
                </a:cubicBezTo>
                <a:cubicBezTo>
                  <a:pt x="377" y="62"/>
                  <a:pt x="399" y="72"/>
                  <a:pt x="424" y="88"/>
                </a:cubicBezTo>
                <a:cubicBezTo>
                  <a:pt x="432" y="87"/>
                  <a:pt x="441" y="88"/>
                  <a:pt x="448" y="84"/>
                </a:cubicBezTo>
                <a:cubicBezTo>
                  <a:pt x="467" y="74"/>
                  <a:pt x="460" y="38"/>
                  <a:pt x="476" y="24"/>
                </a:cubicBezTo>
                <a:cubicBezTo>
                  <a:pt x="498" y="5"/>
                  <a:pt x="512" y="4"/>
                  <a:pt x="540" y="0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custGeom>
            <a:avLst/>
            <a:gdLst/>
            <a:ahLst/>
            <a:rect l="l" t="t" r="r" b="b"/>
            <a:pathLst>
              <a:path w="683" h="1249">
                <a:moveTo>
                  <a:pt x="331" y="124"/>
                </a:moveTo>
                <a:cubicBezTo>
                  <a:pt x="330" y="137"/>
                  <a:pt x="318" y="210"/>
                  <a:pt x="327" y="232"/>
                </a:cubicBezTo>
                <a:cubicBezTo>
                  <a:pt x="329" y="238"/>
                  <a:pt x="346" y="242"/>
                  <a:pt x="351" y="244"/>
                </a:cubicBezTo>
                <a:cubicBezTo>
                  <a:pt x="354" y="248"/>
                  <a:pt x="355" y="253"/>
                  <a:pt x="359" y="256"/>
                </a:cubicBezTo>
                <a:cubicBezTo>
                  <a:pt x="366" y="260"/>
                  <a:pt x="383" y="264"/>
                  <a:pt x="383" y="264"/>
                </a:cubicBezTo>
                <a:cubicBezTo>
                  <a:pt x="399" y="288"/>
                  <a:pt x="414" y="304"/>
                  <a:pt x="439" y="320"/>
                </a:cubicBezTo>
                <a:cubicBezTo>
                  <a:pt x="452" y="328"/>
                  <a:pt x="479" y="344"/>
                  <a:pt x="479" y="344"/>
                </a:cubicBezTo>
                <a:cubicBezTo>
                  <a:pt x="489" y="358"/>
                  <a:pt x="497" y="375"/>
                  <a:pt x="503" y="392"/>
                </a:cubicBezTo>
                <a:cubicBezTo>
                  <a:pt x="504" y="417"/>
                  <a:pt x="500" y="444"/>
                  <a:pt x="507" y="468"/>
                </a:cubicBezTo>
                <a:cubicBezTo>
                  <a:pt x="510" y="477"/>
                  <a:pt x="524" y="477"/>
                  <a:pt x="531" y="484"/>
                </a:cubicBezTo>
                <a:cubicBezTo>
                  <a:pt x="546" y="499"/>
                  <a:pt x="565" y="512"/>
                  <a:pt x="583" y="524"/>
                </a:cubicBezTo>
                <a:cubicBezTo>
                  <a:pt x="591" y="536"/>
                  <a:pt x="603" y="547"/>
                  <a:pt x="615" y="556"/>
                </a:cubicBezTo>
                <a:cubicBezTo>
                  <a:pt x="623" y="562"/>
                  <a:pt x="631" y="567"/>
                  <a:pt x="639" y="572"/>
                </a:cubicBezTo>
                <a:cubicBezTo>
                  <a:pt x="643" y="575"/>
                  <a:pt x="651" y="580"/>
                  <a:pt x="651" y="580"/>
                </a:cubicBezTo>
                <a:cubicBezTo>
                  <a:pt x="683" y="628"/>
                  <a:pt x="621" y="644"/>
                  <a:pt x="591" y="664"/>
                </a:cubicBezTo>
                <a:cubicBezTo>
                  <a:pt x="592" y="668"/>
                  <a:pt x="595" y="672"/>
                  <a:pt x="595" y="676"/>
                </a:cubicBezTo>
                <a:cubicBezTo>
                  <a:pt x="594" y="684"/>
                  <a:pt x="587" y="700"/>
                  <a:pt x="587" y="700"/>
                </a:cubicBezTo>
                <a:cubicBezTo>
                  <a:pt x="588" y="715"/>
                  <a:pt x="587" y="730"/>
                  <a:pt x="591" y="744"/>
                </a:cubicBezTo>
                <a:cubicBezTo>
                  <a:pt x="594" y="753"/>
                  <a:pt x="602" y="760"/>
                  <a:pt x="607" y="768"/>
                </a:cubicBezTo>
                <a:lnTo>
                  <a:pt x="615" y="780"/>
                </a:lnTo>
                <a:cubicBezTo>
                  <a:pt x="615" y="780"/>
                  <a:pt x="627" y="816"/>
                  <a:pt x="627" y="816"/>
                </a:cubicBezTo>
                <a:cubicBezTo>
                  <a:pt x="628" y="820"/>
                  <a:pt x="631" y="828"/>
                  <a:pt x="631" y="828"/>
                </a:cubicBezTo>
                <a:cubicBezTo>
                  <a:pt x="632" y="855"/>
                  <a:pt x="636" y="881"/>
                  <a:pt x="635" y="908"/>
                </a:cubicBezTo>
                <a:cubicBezTo>
                  <a:pt x="634" y="921"/>
                  <a:pt x="623" y="932"/>
                  <a:pt x="619" y="944"/>
                </a:cubicBezTo>
                <a:cubicBezTo>
                  <a:pt x="618" y="948"/>
                  <a:pt x="615" y="956"/>
                  <a:pt x="615" y="956"/>
                </a:cubicBezTo>
                <a:cubicBezTo>
                  <a:pt x="616" y="981"/>
                  <a:pt x="617" y="1007"/>
                  <a:pt x="619" y="1032"/>
                </a:cubicBezTo>
                <a:cubicBezTo>
                  <a:pt x="621" y="1048"/>
                  <a:pt x="627" y="1080"/>
                  <a:pt x="627" y="1080"/>
                </a:cubicBezTo>
                <a:cubicBezTo>
                  <a:pt x="623" y="1110"/>
                  <a:pt x="621" y="1131"/>
                  <a:pt x="595" y="1148"/>
                </a:cubicBezTo>
                <a:cubicBezTo>
                  <a:pt x="592" y="1152"/>
                  <a:pt x="591" y="1157"/>
                  <a:pt x="587" y="1160"/>
                </a:cubicBezTo>
                <a:cubicBezTo>
                  <a:pt x="580" y="1164"/>
                  <a:pt x="563" y="1168"/>
                  <a:pt x="563" y="1168"/>
                </a:cubicBezTo>
                <a:cubicBezTo>
                  <a:pt x="382" y="1167"/>
                  <a:pt x="170" y="1249"/>
                  <a:pt x="19" y="1148"/>
                </a:cubicBezTo>
                <a:cubicBezTo>
                  <a:pt x="0" y="1120"/>
                  <a:pt x="11" y="1142"/>
                  <a:pt x="15" y="1080"/>
                </a:cubicBezTo>
                <a:cubicBezTo>
                  <a:pt x="18" y="1022"/>
                  <a:pt x="21" y="981"/>
                  <a:pt x="39" y="928"/>
                </a:cubicBezTo>
                <a:cubicBezTo>
                  <a:pt x="41" y="886"/>
                  <a:pt x="41" y="841"/>
                  <a:pt x="51" y="800"/>
                </a:cubicBezTo>
                <a:cubicBezTo>
                  <a:pt x="50" y="729"/>
                  <a:pt x="43" y="659"/>
                  <a:pt x="43" y="588"/>
                </a:cubicBezTo>
                <a:cubicBezTo>
                  <a:pt x="43" y="551"/>
                  <a:pt x="45" y="513"/>
                  <a:pt x="47" y="476"/>
                </a:cubicBezTo>
                <a:cubicBezTo>
                  <a:pt x="48" y="461"/>
                  <a:pt x="59" y="432"/>
                  <a:pt x="59" y="432"/>
                </a:cubicBezTo>
                <a:cubicBezTo>
                  <a:pt x="60" y="411"/>
                  <a:pt x="64" y="330"/>
                  <a:pt x="67" y="304"/>
                </a:cubicBezTo>
                <a:cubicBezTo>
                  <a:pt x="70" y="274"/>
                  <a:pt x="70" y="294"/>
                  <a:pt x="75" y="272"/>
                </a:cubicBezTo>
                <a:cubicBezTo>
                  <a:pt x="78" y="259"/>
                  <a:pt x="83" y="232"/>
                  <a:pt x="83" y="232"/>
                </a:cubicBezTo>
                <a:cubicBezTo>
                  <a:pt x="87" y="62"/>
                  <a:pt x="45" y="59"/>
                  <a:pt x="143" y="0"/>
                </a:cubicBezTo>
                <a:cubicBezTo>
                  <a:pt x="186" y="3"/>
                  <a:pt x="209" y="4"/>
                  <a:pt x="247" y="12"/>
                </a:cubicBezTo>
                <a:cubicBezTo>
                  <a:pt x="263" y="20"/>
                  <a:pt x="280" y="26"/>
                  <a:pt x="295" y="36"/>
                </a:cubicBezTo>
                <a:cubicBezTo>
                  <a:pt x="303" y="41"/>
                  <a:pt x="311" y="47"/>
                  <a:pt x="319" y="52"/>
                </a:cubicBezTo>
                <a:cubicBezTo>
                  <a:pt x="323" y="55"/>
                  <a:pt x="331" y="60"/>
                  <a:pt x="331" y="60"/>
                </a:cubicBezTo>
                <a:cubicBezTo>
                  <a:pt x="348" y="85"/>
                  <a:pt x="349" y="82"/>
                  <a:pt x="343" y="132"/>
                </a:cubicBezTo>
                <a:cubicBezTo>
                  <a:pt x="342" y="137"/>
                  <a:pt x="335" y="143"/>
                  <a:pt x="331" y="140"/>
                </a:cubicBezTo>
                <a:cubicBezTo>
                  <a:pt x="327" y="137"/>
                  <a:pt x="331" y="129"/>
                  <a:pt x="331" y="124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custGeom>
            <a:avLst/>
            <a:gdLst/>
            <a:ahLst/>
            <a:rect l="l" t="t" r="r" b="b"/>
            <a:pathLst>
              <a:path w="638" h="1220">
                <a:moveTo>
                  <a:pt x="168" y="136"/>
                </a:moveTo>
                <a:cubicBezTo>
                  <a:pt x="214" y="90"/>
                  <a:pt x="254" y="66"/>
                  <a:pt x="320" y="60"/>
                </a:cubicBezTo>
                <a:cubicBezTo>
                  <a:pt x="368" y="62"/>
                  <a:pt x="390" y="59"/>
                  <a:pt x="428" y="72"/>
                </a:cubicBezTo>
                <a:cubicBezTo>
                  <a:pt x="434" y="81"/>
                  <a:pt x="442" y="87"/>
                  <a:pt x="448" y="96"/>
                </a:cubicBezTo>
                <a:cubicBezTo>
                  <a:pt x="458" y="111"/>
                  <a:pt x="450" y="130"/>
                  <a:pt x="464" y="144"/>
                </a:cubicBezTo>
                <a:cubicBezTo>
                  <a:pt x="504" y="184"/>
                  <a:pt x="565" y="185"/>
                  <a:pt x="616" y="188"/>
                </a:cubicBezTo>
                <a:cubicBezTo>
                  <a:pt x="638" y="221"/>
                  <a:pt x="613" y="281"/>
                  <a:pt x="592" y="312"/>
                </a:cubicBezTo>
                <a:cubicBezTo>
                  <a:pt x="588" y="401"/>
                  <a:pt x="613" y="452"/>
                  <a:pt x="520" y="464"/>
                </a:cubicBezTo>
                <a:cubicBezTo>
                  <a:pt x="498" y="471"/>
                  <a:pt x="500" y="502"/>
                  <a:pt x="512" y="520"/>
                </a:cubicBezTo>
                <a:cubicBezTo>
                  <a:pt x="520" y="533"/>
                  <a:pt x="532" y="543"/>
                  <a:pt x="540" y="556"/>
                </a:cubicBezTo>
                <a:cubicBezTo>
                  <a:pt x="547" y="567"/>
                  <a:pt x="556" y="592"/>
                  <a:pt x="556" y="592"/>
                </a:cubicBezTo>
                <a:cubicBezTo>
                  <a:pt x="551" y="686"/>
                  <a:pt x="542" y="782"/>
                  <a:pt x="596" y="864"/>
                </a:cubicBezTo>
                <a:cubicBezTo>
                  <a:pt x="599" y="901"/>
                  <a:pt x="600" y="931"/>
                  <a:pt x="616" y="964"/>
                </a:cubicBezTo>
                <a:cubicBezTo>
                  <a:pt x="613" y="1023"/>
                  <a:pt x="618" y="1061"/>
                  <a:pt x="560" y="1080"/>
                </a:cubicBezTo>
                <a:cubicBezTo>
                  <a:pt x="544" y="1079"/>
                  <a:pt x="528" y="1079"/>
                  <a:pt x="512" y="1076"/>
                </a:cubicBezTo>
                <a:cubicBezTo>
                  <a:pt x="504" y="1075"/>
                  <a:pt x="488" y="1068"/>
                  <a:pt x="488" y="1068"/>
                </a:cubicBezTo>
                <a:cubicBezTo>
                  <a:pt x="460" y="1069"/>
                  <a:pt x="432" y="1069"/>
                  <a:pt x="404" y="1072"/>
                </a:cubicBezTo>
                <a:cubicBezTo>
                  <a:pt x="386" y="1074"/>
                  <a:pt x="387" y="1085"/>
                  <a:pt x="376" y="1096"/>
                </a:cubicBezTo>
                <a:cubicBezTo>
                  <a:pt x="348" y="1124"/>
                  <a:pt x="321" y="1162"/>
                  <a:pt x="288" y="1184"/>
                </a:cubicBezTo>
                <a:cubicBezTo>
                  <a:pt x="277" y="1201"/>
                  <a:pt x="267" y="1205"/>
                  <a:pt x="248" y="1212"/>
                </a:cubicBezTo>
                <a:cubicBezTo>
                  <a:pt x="240" y="1215"/>
                  <a:pt x="224" y="1220"/>
                  <a:pt x="224" y="1220"/>
                </a:cubicBezTo>
                <a:cubicBezTo>
                  <a:pt x="201" y="1219"/>
                  <a:pt x="179" y="1218"/>
                  <a:pt x="156" y="1216"/>
                </a:cubicBezTo>
                <a:cubicBezTo>
                  <a:pt x="151" y="1215"/>
                  <a:pt x="145" y="1213"/>
                  <a:pt x="140" y="1212"/>
                </a:cubicBezTo>
                <a:cubicBezTo>
                  <a:pt x="121" y="1209"/>
                  <a:pt x="84" y="1204"/>
                  <a:pt x="84" y="1204"/>
                </a:cubicBezTo>
                <a:cubicBezTo>
                  <a:pt x="70" y="1199"/>
                  <a:pt x="58" y="1195"/>
                  <a:pt x="52" y="1180"/>
                </a:cubicBezTo>
                <a:cubicBezTo>
                  <a:pt x="49" y="1172"/>
                  <a:pt x="44" y="1156"/>
                  <a:pt x="44" y="1156"/>
                </a:cubicBezTo>
                <a:cubicBezTo>
                  <a:pt x="50" y="1134"/>
                  <a:pt x="59" y="1111"/>
                  <a:pt x="72" y="1092"/>
                </a:cubicBezTo>
                <a:cubicBezTo>
                  <a:pt x="79" y="1081"/>
                  <a:pt x="88" y="1056"/>
                  <a:pt x="88" y="1056"/>
                </a:cubicBezTo>
                <a:cubicBezTo>
                  <a:pt x="84" y="962"/>
                  <a:pt x="66" y="855"/>
                  <a:pt x="96" y="764"/>
                </a:cubicBezTo>
                <a:cubicBezTo>
                  <a:pt x="100" y="734"/>
                  <a:pt x="105" y="704"/>
                  <a:pt x="116" y="676"/>
                </a:cubicBezTo>
                <a:cubicBezTo>
                  <a:pt x="119" y="641"/>
                  <a:pt x="126" y="610"/>
                  <a:pt x="132" y="576"/>
                </a:cubicBezTo>
                <a:cubicBezTo>
                  <a:pt x="133" y="557"/>
                  <a:pt x="136" y="539"/>
                  <a:pt x="136" y="520"/>
                </a:cubicBezTo>
                <a:cubicBezTo>
                  <a:pt x="136" y="483"/>
                  <a:pt x="127" y="455"/>
                  <a:pt x="104" y="428"/>
                </a:cubicBezTo>
                <a:cubicBezTo>
                  <a:pt x="63" y="381"/>
                  <a:pt x="114" y="455"/>
                  <a:pt x="72" y="400"/>
                </a:cubicBezTo>
                <a:cubicBezTo>
                  <a:pt x="59" y="382"/>
                  <a:pt x="50" y="371"/>
                  <a:pt x="28" y="364"/>
                </a:cubicBezTo>
                <a:cubicBezTo>
                  <a:pt x="25" y="360"/>
                  <a:pt x="22" y="356"/>
                  <a:pt x="20" y="352"/>
                </a:cubicBezTo>
                <a:cubicBezTo>
                  <a:pt x="18" y="348"/>
                  <a:pt x="18" y="344"/>
                  <a:pt x="16" y="340"/>
                </a:cubicBezTo>
                <a:cubicBezTo>
                  <a:pt x="11" y="332"/>
                  <a:pt x="0" y="316"/>
                  <a:pt x="0" y="316"/>
                </a:cubicBezTo>
                <a:cubicBezTo>
                  <a:pt x="3" y="274"/>
                  <a:pt x="8" y="240"/>
                  <a:pt x="16" y="200"/>
                </a:cubicBezTo>
                <a:cubicBezTo>
                  <a:pt x="15" y="156"/>
                  <a:pt x="12" y="112"/>
                  <a:pt x="12" y="68"/>
                </a:cubicBezTo>
                <a:cubicBezTo>
                  <a:pt x="12" y="28"/>
                  <a:pt x="62" y="18"/>
                  <a:pt x="88" y="0"/>
                </a:cubicBezTo>
                <a:cubicBezTo>
                  <a:pt x="118" y="5"/>
                  <a:pt x="139" y="23"/>
                  <a:pt x="156" y="48"/>
                </a:cubicBezTo>
                <a:cubicBezTo>
                  <a:pt x="160" y="76"/>
                  <a:pt x="160" y="128"/>
                  <a:pt x="184" y="144"/>
                </a:cubicBezTo>
                <a:cubicBezTo>
                  <a:pt x="179" y="128"/>
                  <a:pt x="184" y="131"/>
                  <a:pt x="168" y="136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custGeom>
            <a:avLst/>
            <a:gdLst/>
            <a:ahLst/>
            <a:rect l="l" t="t" r="r" b="b"/>
            <a:pathLst>
              <a:path w="609" h="1290">
                <a:moveTo>
                  <a:pt x="466" y="105"/>
                </a:moveTo>
                <a:cubicBezTo>
                  <a:pt x="464" y="124"/>
                  <a:pt x="467" y="145"/>
                  <a:pt x="454" y="161"/>
                </a:cubicBezTo>
                <a:cubicBezTo>
                  <a:pt x="437" y="182"/>
                  <a:pt x="419" y="194"/>
                  <a:pt x="410" y="221"/>
                </a:cubicBezTo>
                <a:cubicBezTo>
                  <a:pt x="415" y="294"/>
                  <a:pt x="430" y="337"/>
                  <a:pt x="462" y="401"/>
                </a:cubicBezTo>
                <a:cubicBezTo>
                  <a:pt x="469" y="454"/>
                  <a:pt x="463" y="508"/>
                  <a:pt x="470" y="561"/>
                </a:cubicBezTo>
                <a:cubicBezTo>
                  <a:pt x="472" y="574"/>
                  <a:pt x="503" y="602"/>
                  <a:pt x="510" y="609"/>
                </a:cubicBezTo>
                <a:cubicBezTo>
                  <a:pt x="514" y="613"/>
                  <a:pt x="522" y="621"/>
                  <a:pt x="522" y="621"/>
                </a:cubicBezTo>
                <a:cubicBezTo>
                  <a:pt x="529" y="641"/>
                  <a:pt x="538" y="654"/>
                  <a:pt x="546" y="673"/>
                </a:cubicBezTo>
                <a:cubicBezTo>
                  <a:pt x="563" y="715"/>
                  <a:pt x="571" y="765"/>
                  <a:pt x="578" y="809"/>
                </a:cubicBezTo>
                <a:cubicBezTo>
                  <a:pt x="580" y="892"/>
                  <a:pt x="609" y="1060"/>
                  <a:pt x="558" y="1137"/>
                </a:cubicBezTo>
                <a:cubicBezTo>
                  <a:pt x="553" y="1156"/>
                  <a:pt x="542" y="1169"/>
                  <a:pt x="538" y="1189"/>
                </a:cubicBezTo>
                <a:cubicBezTo>
                  <a:pt x="534" y="1209"/>
                  <a:pt x="531" y="1245"/>
                  <a:pt x="510" y="1257"/>
                </a:cubicBezTo>
                <a:cubicBezTo>
                  <a:pt x="492" y="1267"/>
                  <a:pt x="466" y="1270"/>
                  <a:pt x="446" y="1273"/>
                </a:cubicBezTo>
                <a:cubicBezTo>
                  <a:pt x="383" y="1272"/>
                  <a:pt x="316" y="1290"/>
                  <a:pt x="258" y="1265"/>
                </a:cubicBezTo>
                <a:cubicBezTo>
                  <a:pt x="237" y="1256"/>
                  <a:pt x="215" y="1247"/>
                  <a:pt x="194" y="1237"/>
                </a:cubicBezTo>
                <a:cubicBezTo>
                  <a:pt x="182" y="1231"/>
                  <a:pt x="158" y="1217"/>
                  <a:pt x="158" y="1217"/>
                </a:cubicBezTo>
                <a:cubicBezTo>
                  <a:pt x="150" y="1201"/>
                  <a:pt x="144" y="1186"/>
                  <a:pt x="138" y="1169"/>
                </a:cubicBezTo>
                <a:cubicBezTo>
                  <a:pt x="147" y="1135"/>
                  <a:pt x="149" y="1102"/>
                  <a:pt x="162" y="1069"/>
                </a:cubicBezTo>
                <a:cubicBezTo>
                  <a:pt x="161" y="1046"/>
                  <a:pt x="160" y="1024"/>
                  <a:pt x="158" y="1001"/>
                </a:cubicBezTo>
                <a:cubicBezTo>
                  <a:pt x="157" y="993"/>
                  <a:pt x="151" y="965"/>
                  <a:pt x="142" y="961"/>
                </a:cubicBezTo>
                <a:cubicBezTo>
                  <a:pt x="127" y="954"/>
                  <a:pt x="110" y="956"/>
                  <a:pt x="94" y="953"/>
                </a:cubicBezTo>
                <a:cubicBezTo>
                  <a:pt x="77" y="945"/>
                  <a:pt x="73" y="935"/>
                  <a:pt x="58" y="925"/>
                </a:cubicBezTo>
                <a:cubicBezTo>
                  <a:pt x="42" y="901"/>
                  <a:pt x="50" y="873"/>
                  <a:pt x="34" y="849"/>
                </a:cubicBezTo>
                <a:cubicBezTo>
                  <a:pt x="35" y="834"/>
                  <a:pt x="35" y="820"/>
                  <a:pt x="38" y="805"/>
                </a:cubicBezTo>
                <a:cubicBezTo>
                  <a:pt x="39" y="797"/>
                  <a:pt x="46" y="781"/>
                  <a:pt x="46" y="781"/>
                </a:cubicBezTo>
                <a:cubicBezTo>
                  <a:pt x="35" y="733"/>
                  <a:pt x="21" y="687"/>
                  <a:pt x="6" y="641"/>
                </a:cubicBezTo>
                <a:cubicBezTo>
                  <a:pt x="0" y="583"/>
                  <a:pt x="6" y="533"/>
                  <a:pt x="38" y="485"/>
                </a:cubicBezTo>
                <a:cubicBezTo>
                  <a:pt x="53" y="426"/>
                  <a:pt x="61" y="354"/>
                  <a:pt x="98" y="305"/>
                </a:cubicBezTo>
                <a:cubicBezTo>
                  <a:pt x="103" y="289"/>
                  <a:pt x="112" y="282"/>
                  <a:pt x="126" y="273"/>
                </a:cubicBezTo>
                <a:cubicBezTo>
                  <a:pt x="131" y="257"/>
                  <a:pt x="150" y="229"/>
                  <a:pt x="150" y="229"/>
                </a:cubicBezTo>
                <a:cubicBezTo>
                  <a:pt x="154" y="204"/>
                  <a:pt x="158" y="185"/>
                  <a:pt x="166" y="161"/>
                </a:cubicBezTo>
                <a:cubicBezTo>
                  <a:pt x="170" y="148"/>
                  <a:pt x="198" y="133"/>
                  <a:pt x="198" y="133"/>
                </a:cubicBezTo>
                <a:cubicBezTo>
                  <a:pt x="204" y="124"/>
                  <a:pt x="213" y="118"/>
                  <a:pt x="218" y="109"/>
                </a:cubicBezTo>
                <a:cubicBezTo>
                  <a:pt x="230" y="88"/>
                  <a:pt x="230" y="56"/>
                  <a:pt x="238" y="33"/>
                </a:cubicBezTo>
                <a:cubicBezTo>
                  <a:pt x="239" y="30"/>
                  <a:pt x="265" y="17"/>
                  <a:pt x="266" y="17"/>
                </a:cubicBezTo>
                <a:cubicBezTo>
                  <a:pt x="274" y="14"/>
                  <a:pt x="290" y="9"/>
                  <a:pt x="290" y="9"/>
                </a:cubicBezTo>
                <a:cubicBezTo>
                  <a:pt x="359" y="12"/>
                  <a:pt x="439" y="0"/>
                  <a:pt x="482" y="65"/>
                </a:cubicBezTo>
                <a:cubicBezTo>
                  <a:pt x="474" y="77"/>
                  <a:pt x="470" y="89"/>
                  <a:pt x="462" y="101"/>
                </a:cubicBezTo>
                <a:cubicBezTo>
                  <a:pt x="467" y="116"/>
                  <a:pt x="466" y="117"/>
                  <a:pt x="466" y="105"/>
                </a:cubicBez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280" y="323064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гиня ох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48E-BD26-444F-97A9-6142592A5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22:26:47Z</dcterms:created>
  <dc:creator>ХУДОБЕЦ Александр</dc:creator>
  <dc:description/>
  <dc:language>en-US</dc:language>
  <cp:lastModifiedBy>студент</cp:lastModifiedBy>
  <dcterms:modified xsi:type="dcterms:W3CDTF">2010-05-12T09:04:15Z</dcterms:modified>
  <cp:revision>25</cp:revision>
  <dc:subject/>
  <dc:title>БОГИ и БОГИНИ ДРЕВНЕЙ ГРЕЦИИ</dc:title>
</cp:coreProperties>
</file>